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4964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62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42660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3850920" y="9426240"/>
            <a:ext cx="2932200" cy="484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5BE10-82EE-44D9-856B-ED27347BE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277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ADA8-61DA-4A85-AEF0-993B3792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121B-DB9E-4556-9E06-4BF318BEB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645F-B124-40DA-A3F5-A37F55C27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3AD1-647C-40C7-988C-CAB98BFE8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8C82-35A5-40E8-AF17-52BD33817D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9E5F-50B0-4E3B-B04E-EDBA50592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0507-CAF5-4E47-A3AF-7922CA2EA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3E5B-8A2D-445F-A20C-14C428229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72800"/>
            <a:ext cx="821700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36CA-32F2-427F-B78F-AB2F30B23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3A14-F026-4A13-B3FC-84616611D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B9C6-B7B8-4EF5-9186-B84EB1CD7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7133-3018-4924-ACB6-38DAD1C1C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64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1" marL="730080" indent="-27288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2" marL="11430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3" marL="16002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4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5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6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1D297-23DD-46F1-B1EE-C6F4F07D94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920" y="46080"/>
            <a:ext cx="900108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7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steplone.etice.ce.gov.br/port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19280" y="183600"/>
            <a:ext cx="65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Microsoft Sans Serif"/>
              </a:rPr>
              <a:t>PROJETO PORTAL DE COMPRAS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Microsoft Sans Serif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Microsoft Sans Serif"/>
              </a:rPr>
              <a:t>DO ESTADO DO CE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7720" y="10857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CATEGORIAS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79640" y="1692360"/>
            <a:ext cx="7199280" cy="306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0AB7-6117-41B1-9E3E-4A3A60E9533A}" type="slidenum">
              <a:t>10</a:t>
            </a:fld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8120" y="1224000"/>
            <a:ext cx="1739880" cy="1431360"/>
            <a:chOff x="438120" y="1224000"/>
            <a:chExt cx="1739880" cy="143136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503280" y="1503000"/>
              <a:ext cx="16747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38120" y="1224000"/>
              <a:ext cx="12636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CITAWE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93760" y="2922480"/>
            <a:ext cx="1739520" cy="1598760"/>
            <a:chOff x="293760" y="2922480"/>
            <a:chExt cx="1739520" cy="159876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60000" y="3367080"/>
              <a:ext cx="1673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93760" y="2922480"/>
              <a:ext cx="17146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ULTA DE BMS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NCO DE PREÇ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833400" y="4721400"/>
            <a:ext cx="1739520" cy="1395000"/>
            <a:chOff x="833400" y="4721400"/>
            <a:chExt cx="1739520" cy="139500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899640" y="4963680"/>
              <a:ext cx="16732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33400" y="4721400"/>
              <a:ext cx="580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702480" y="1289160"/>
            <a:ext cx="1771200" cy="1383840"/>
            <a:chOff x="6702480" y="1289160"/>
            <a:chExt cx="1771200" cy="1383840"/>
          </a:xfrm>
        </p:grpSpPr>
        <p:pic>
          <p:nvPicPr>
            <p:cNvPr id="88" name="" descr=""/>
            <p:cNvPicPr/>
            <p:nvPr/>
          </p:nvPicPr>
          <p:blipFill>
            <a:blip r:embed="rId4"/>
            <a:stretch/>
          </p:blipFill>
          <p:spPr>
            <a:xfrm>
              <a:off x="6800400" y="1520640"/>
              <a:ext cx="16732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702480" y="1289160"/>
              <a:ext cx="60264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4320" y="2973240"/>
            <a:ext cx="2262240" cy="1432080"/>
            <a:chOff x="6664320" y="2973240"/>
            <a:chExt cx="2262240" cy="143208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6832080" y="3251160"/>
              <a:ext cx="167400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664320" y="2973240"/>
              <a:ext cx="2262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 DE LICITAÇÕ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PROPOSTA: UNIFICAÇÃO DAS INFORMAÇÕES E SERVIÇOS EM WWW.PORTALCOMPRAS.CE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19640" y="4788000"/>
            <a:ext cx="1797120" cy="1544040"/>
            <a:chOff x="6119640" y="4788000"/>
            <a:chExt cx="1797120" cy="1544040"/>
          </a:xfrm>
        </p:grpSpPr>
        <p:sp>
          <p:nvSpPr>
            <p:cNvPr id="95" name=""/>
            <p:cNvSpPr/>
            <p:nvPr/>
          </p:nvSpPr>
          <p:spPr>
            <a:xfrm>
              <a:off x="6119640" y="5003280"/>
              <a:ext cx="1797120" cy="1328760"/>
            </a:xfrm>
            <a:custGeom>
              <a:avLst/>
              <a:gdLst>
                <a:gd name="textAreaLeft" fmla="*/ 156600 w 1797120"/>
                <a:gd name="textAreaRight" fmla="*/ 1640520 w 1797120"/>
                <a:gd name="textAreaTop" fmla="*/ 156600 h 1328760"/>
                <a:gd name="textAreaBottom" fmla="*/ 1172160 h 1328760"/>
              </a:gdLst>
              <a:ahLst/>
              <a:rect l="textAreaLeft" t="textAreaTop" r="textAreaRight" b="textAreaBottom"/>
              <a:pathLst>
                <a:path w="2921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5611" y="21600"/>
                  </a:lnTo>
                  <a:arcTo wR="3600" hR="3600" stAng="10800000" swAng="5400000"/>
                  <a:lnTo>
                    <a:pt x="29211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marL="176040" indent="-176040" algn="ctr">
                <a:lnSpc>
                  <a:spcPct val="100000"/>
                </a:lnSpc>
                <a:tabLst>
                  <a:tab algn="l" pos="0"/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Microsoft Sans Serif"/>
                </a:rPr>
                <a:t>NOVOS AMBIENT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NOTÍCIAS SOBRE PROCESSOS DE AQUISIÇÕES, ORIENTAÇÃO E SERVIÇOS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ESTATÍSTICAS DAS AQUISIÇÕES DO ESTADO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MANUAL DO FORNECEDOR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LEGISLAÇÃO SOBRE AQUISIÇÕES PÚBLICAS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CHECK LIST DO PROCESSO DE COMPRAS;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Microsoft Sans Serif"/>
                <a:buChar char="•"/>
                <a:tabLst>
                  <a:tab algn="l" pos="176040"/>
                  <a:tab algn="l" pos="623880"/>
                  <a:tab algn="l" pos="1073160"/>
                  <a:tab algn="l" pos="1522440"/>
                  <a:tab algn="l" pos="1971720"/>
                  <a:tab algn="l" pos="2421000"/>
                  <a:tab algn="l" pos="2870280"/>
                  <a:tab algn="l" pos="3319560"/>
                  <a:tab algn="l" pos="3768840"/>
                  <a:tab algn="l" pos="4218120"/>
                  <a:tab algn="l" pos="4667400"/>
                  <a:tab algn="l" pos="5116680"/>
                  <a:tab algn="l" pos="5565600"/>
                  <a:tab algn="l" pos="6014880"/>
                  <a:tab algn="l" pos="6464160"/>
                  <a:tab algn="l" pos="6913440"/>
                  <a:tab algn="l" pos="7362720"/>
                  <a:tab algn="l" pos="7812000"/>
                  <a:tab algn="l" pos="8261280"/>
                  <a:tab algn="l" pos="8710560"/>
                  <a:tab algn="l" pos="9159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600" spc="-1" strike="noStrike">
                  <a:solidFill>
                    <a:srgbClr val="008000"/>
                  </a:solidFill>
                  <a:latin typeface="Microsoft Sans Serif"/>
                </a:rPr>
                <a:t>FALE CONOSCO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9640" y="4788000"/>
              <a:ext cx="16653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VOS AMBI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48000" y="792000"/>
            <a:ext cx="1869480" cy="1498320"/>
            <a:chOff x="2448000" y="792000"/>
            <a:chExt cx="1869480" cy="1498320"/>
          </a:xfrm>
        </p:grpSpPr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2518920" y="1044360"/>
              <a:ext cx="17985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448000" y="792000"/>
              <a:ext cx="8989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08360" y="863640"/>
            <a:ext cx="1866600" cy="1426680"/>
            <a:chOff x="4608360" y="863640"/>
            <a:chExt cx="1866600" cy="1426680"/>
          </a:xfrm>
        </p:grpSpPr>
        <p:pic>
          <p:nvPicPr>
            <p:cNvPr id="101" name="" descr=""/>
            <p:cNvPicPr/>
            <p:nvPr/>
          </p:nvPicPr>
          <p:blipFill>
            <a:blip r:embed="rId7"/>
            <a:stretch/>
          </p:blipFill>
          <p:spPr>
            <a:xfrm>
              <a:off x="4679640" y="1079280"/>
              <a:ext cx="179532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608360" y="863640"/>
              <a:ext cx="8992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GE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48000" y="5148360"/>
            <a:ext cx="1974600" cy="1474200"/>
            <a:chOff x="3348000" y="5148360"/>
            <a:chExt cx="1974600" cy="1474200"/>
          </a:xfrm>
        </p:grpSpPr>
        <p:pic>
          <p:nvPicPr>
            <p:cNvPr id="104" name="" descr=""/>
            <p:cNvPicPr/>
            <p:nvPr/>
          </p:nvPicPr>
          <p:blipFill>
            <a:blip r:embed="rId8"/>
            <a:stretch/>
          </p:blipFill>
          <p:spPr>
            <a:xfrm>
              <a:off x="3419280" y="5363640"/>
              <a:ext cx="190332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48000" y="5148360"/>
              <a:ext cx="89928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340000" y="2700360"/>
            <a:ext cx="90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60720" y="2303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930560" y="2303640"/>
            <a:ext cx="10825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578200" y="2700360"/>
            <a:ext cx="108252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78200" y="3780000"/>
            <a:ext cx="1082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578560" y="4677840"/>
            <a:ext cx="363600" cy="5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720" y="3780000"/>
            <a:ext cx="1079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00360" y="4319280"/>
            <a:ext cx="720720" cy="10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19640" y="5038560"/>
            <a:ext cx="1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3419640" y="2700360"/>
            <a:ext cx="21603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798E-D859-4FDE-A609-C0019B3E4271}" type="slidenum">
              <a:t>11</a:t>
            </a:fld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43280" y="115920"/>
            <a:ext cx="6119640" cy="62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ENDEREÇO  WEB DO PORTAL DE COMPRAS DO GOVERNO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6720" y="3132000"/>
            <a:ext cx="738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 algn="ctr"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portalcompras.ce.gov.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EAF3-F462-4A1B-83A4-4CBA258890DF}" type="slidenum">
              <a:t>12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3280" y="144360"/>
            <a:ext cx="61196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DEFIN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2700360"/>
            <a:ext cx="77407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O portal de compras do Governo do Estado do Ceará é um ambiente na rede mundial de computadores  - Internet, que reúne todas as informações e serviços relacionados a aquisições públicas de bens e materiais e a contratação de obras e 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95A8-DE3C-41DC-A57E-C8822A151D06}" type="slidenum">
              <a:t>2</a:t>
            </a:fld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144360"/>
            <a:ext cx="61196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FUNDAMENTAÇÃO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1440000"/>
            <a:ext cx="77407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DECRETO Nº28.086 de 10 de janeiro de 2006, que regulamenta, no âmbito da Administração Pública Estadual, o Sistema de Compras, e dá outras providê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</a:rPr>
              <a:t>Art.6º A Secretaria da Administração será o Órgão Gestor do Sistema de Compras, responsabilizando-se pela gestão do processo de compras no âmbito do Governo do Estado do Cear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3904-1E78-46F3-810F-F1A0E7070474}" type="slidenum">
              <a:t>3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843280" y="144360"/>
            <a:ext cx="61196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OBJETIVOS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557360"/>
            <a:ext cx="738036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9280" indent="-44928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Reunir em um só ambiente todas informações e serviços relacionados a aquisições públicas disponíveis atualmente nos portais da SEPLAG, PGE; SESA, ETICE, CAGECE, et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Ampliar os serviços e informações aos fornecedores e interessados em contratar com o Estado, assim como aos gestores públicos ligados aos processos de compras governament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Proporcionar maior visibilidade à política de compras governament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Hospedar o sistema eletrônico de compras do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2133-FA3F-47D4-B79E-A87C31F835A2}" type="slidenum">
              <a:t>4</a:t>
            </a:fld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843280" y="144360"/>
            <a:ext cx="6119640" cy="5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PÚBLICO ALVO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79640" y="1619280"/>
            <a:ext cx="6659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Gestores da Coordenadoria de Gestão de Compr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Gestores de Compras dos órgãos/entidad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Órgãos de outras esferas de po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Central de Licit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Forneced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575"/>
              </a:spcBef>
              <a:spcAft>
                <a:spcPts val="575"/>
              </a:spcAft>
              <a:buClr>
                <a:srgbClr val="000000"/>
              </a:buClr>
              <a:buFont typeface="MS Reference Sans Serif"/>
              <a:buAutoNum type="romanUcPeriod"/>
              <a:tabLst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Socie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E5A2-FF9D-4AB1-BABD-EA06969CFF62}" type="slidenum">
              <a:t>5</a:t>
            </a:fld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icrosoft Sans Serif"/>
              </a:rPr>
              <a:t>PREMISSAS DE SUCESSO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1584360"/>
            <a:ext cx="828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23760" indent="-466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S Reference Sans Serif"/>
              <a:buAutoNum type="romanUcPeriod"/>
              <a:tabLst>
                <a:tab algn="l" pos="923760"/>
                <a:tab algn="l" pos="1371600"/>
                <a:tab algn="l" pos="1820880"/>
                <a:tab algn="l" pos="2270160"/>
                <a:tab algn="l" pos="2719440"/>
                <a:tab algn="l" pos="3168720"/>
                <a:tab algn="l" pos="3618000"/>
                <a:tab algn="l" pos="4067280"/>
                <a:tab algn="l" pos="4516560"/>
                <a:tab algn="l" pos="4965840"/>
                <a:tab algn="l" pos="5415120"/>
                <a:tab algn="l" pos="5864400"/>
                <a:tab algn="l" pos="6313320"/>
                <a:tab algn="l" pos="6762600"/>
                <a:tab algn="l" pos="7211880"/>
                <a:tab algn="l" pos="7661160"/>
                <a:tab algn="l" pos="8110440"/>
                <a:tab algn="l" pos="8559720"/>
                <a:tab algn="l" pos="9009000"/>
                <a:tab algn="l" pos="9458280"/>
                <a:tab algn="l" pos="99075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  <a:ea typeface="Lucida Sans Unicode"/>
              </a:rPr>
              <a:t>Decisão pol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466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S Reference Sans Serif"/>
              <a:buAutoNum type="romanUcPeriod"/>
              <a:tabLst>
                <a:tab algn="l" pos="923760"/>
                <a:tab algn="l" pos="1371600"/>
                <a:tab algn="l" pos="1820880"/>
                <a:tab algn="l" pos="2270160"/>
                <a:tab algn="l" pos="2719440"/>
                <a:tab algn="l" pos="3168720"/>
                <a:tab algn="l" pos="3618000"/>
                <a:tab algn="l" pos="4067280"/>
                <a:tab algn="l" pos="4516560"/>
                <a:tab algn="l" pos="4965840"/>
                <a:tab algn="l" pos="5415120"/>
                <a:tab algn="l" pos="5864400"/>
                <a:tab algn="l" pos="6313320"/>
                <a:tab algn="l" pos="6762600"/>
                <a:tab algn="l" pos="7211880"/>
                <a:tab algn="l" pos="7661160"/>
                <a:tab algn="l" pos="8110440"/>
                <a:tab algn="l" pos="8559720"/>
                <a:tab algn="l" pos="9009000"/>
                <a:tab algn="l" pos="9458280"/>
                <a:tab algn="l" pos="99075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  <a:ea typeface="Lucida Sans Unicode"/>
              </a:rPr>
              <a:t>Definição de estrutura de pessoal e papeis dos envolvidos na geração e atualização das informações e serviç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466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S Reference Sans Serif"/>
              <a:buAutoNum type="romanUcPeriod"/>
              <a:tabLst>
                <a:tab algn="l" pos="923760"/>
                <a:tab algn="l" pos="1371600"/>
                <a:tab algn="l" pos="1820880"/>
                <a:tab algn="l" pos="2270160"/>
                <a:tab algn="l" pos="2719440"/>
                <a:tab algn="l" pos="3168720"/>
                <a:tab algn="l" pos="3618000"/>
                <a:tab algn="l" pos="4067280"/>
                <a:tab algn="l" pos="4516560"/>
                <a:tab algn="l" pos="4965840"/>
                <a:tab algn="l" pos="5415120"/>
                <a:tab algn="l" pos="5864400"/>
                <a:tab algn="l" pos="6313320"/>
                <a:tab algn="l" pos="6762600"/>
                <a:tab algn="l" pos="7211880"/>
                <a:tab algn="l" pos="7661160"/>
                <a:tab algn="l" pos="8110440"/>
                <a:tab algn="l" pos="8559720"/>
                <a:tab algn="l" pos="9009000"/>
                <a:tab algn="l" pos="9458280"/>
                <a:tab algn="l" pos="99075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  <a:ea typeface="Lucida Sans Unicode"/>
              </a:rPr>
              <a:t>Comprometimento dos responsáveis, em cada órgão, pelas informações e serviços do portal, que continuarão com essa atribuição, porém o farão no novo 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466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S Reference Sans Serif"/>
              <a:buAutoNum type="romanUcPeriod"/>
              <a:tabLst>
                <a:tab algn="l" pos="923760"/>
                <a:tab algn="l" pos="1371600"/>
                <a:tab algn="l" pos="1820880"/>
                <a:tab algn="l" pos="2270160"/>
                <a:tab algn="l" pos="2719440"/>
                <a:tab algn="l" pos="3168720"/>
                <a:tab algn="l" pos="3618000"/>
                <a:tab algn="l" pos="4067280"/>
                <a:tab algn="l" pos="4516560"/>
                <a:tab algn="l" pos="4965840"/>
                <a:tab algn="l" pos="5415120"/>
                <a:tab algn="l" pos="5864400"/>
                <a:tab algn="l" pos="6313320"/>
                <a:tab algn="l" pos="6762600"/>
                <a:tab algn="l" pos="7211880"/>
                <a:tab algn="l" pos="7661160"/>
                <a:tab algn="l" pos="8110440"/>
                <a:tab algn="l" pos="8559720"/>
                <a:tab algn="l" pos="9009000"/>
                <a:tab algn="l" pos="9458280"/>
                <a:tab algn="l" pos="99075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Reference Sans Serif"/>
                <a:ea typeface="Lucida Sans Unicode"/>
              </a:rPr>
              <a:t>Desenvolvimento no novo padrão de identidade visual do Governo do Estado do Cear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F2AB-0BC6-4517-A91D-F1A0B778344F}" type="slidenum">
              <a:t>6</a:t>
            </a:fld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S Reference Sans Serif"/>
              </a:rPr>
              <a:t>CATEGORIAIS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79640" y="1914480"/>
            <a:ext cx="719928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E563-A409-4478-83E6-C60387875535}" type="slidenum">
              <a:t>7</a:t>
            </a:fld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S Reference Sans Serif"/>
              </a:rPr>
              <a:t>CATEGORIAS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79640" y="1890720"/>
            <a:ext cx="7199280" cy="271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D0E2-50CA-4393-9F02-24A670510C52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43280" y="144360"/>
            <a:ext cx="611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dfb5"/>
              </a:gs>
              <a:gs pos="100000">
                <a:srgbClr val="b3b30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MS Reference Sans Serif"/>
              </a:rPr>
              <a:t>CATEGORIAS DO PORTAL DE COMPRAS DO ES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79640" y="1735200"/>
            <a:ext cx="7199280" cy="384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2E67-B2C9-4E7A-93D5-E9583F7505C0}" type="slidenum">
              <a:t>9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iago</dc:creator>
  <dc:description/>
  <dc:language>en-US</dc:language>
  <cp:lastModifiedBy>Valdir Augusto da Silva</cp:lastModifiedBy>
  <dcterms:modified xsi:type="dcterms:W3CDTF">2008-12-04T02:18:32Z</dcterms:modified>
  <cp:revision>5</cp:revision>
  <dc:subject/>
  <dc:title>Slide 1</dc:title>
</cp:coreProperties>
</file>