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5320" y="198072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5320" y="4192200"/>
            <a:ext cx="2499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800" y="419220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980720"/>
            <a:ext cx="3788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63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30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98200" y="6437160"/>
            <a:ext cx="736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5160"/>
                <a:tab algn="l" pos="10779120"/>
                <a:tab algn="l" pos="1078056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Times New Roman"/>
              </a:rPr>
              <a:t>Projeto de: Venicio Paulo (E-mail: veniciopaulo@hotmail.com)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900" spc="-1" strike="noStrike">
                <a:solidFill>
                  <a:srgbClr val="0000ff"/>
                </a:solidFill>
                <a:latin typeface="Times New Roman"/>
              </a:rPr>
              <a:t>Apoio: Melissa Duarte, Paulo Ro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5120" y="15228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Impact"/>
              </a:rPr>
              <a:t>Sistema De Controle De Ata De Registro De Preços - S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4360" y="476280"/>
            <a:ext cx="7775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6315" r="0" b="0"/>
          <a:stretch/>
        </p:blipFill>
        <p:spPr>
          <a:xfrm>
            <a:off x="762120" y="2851200"/>
            <a:ext cx="7619760" cy="34574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843280" y="5084640"/>
            <a:ext cx="54007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em CONSULTAR para verificar se existe local de entrega cadastrado no seu órg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836640"/>
            <a:ext cx="806472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ódulo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700280"/>
            <a:ext cx="698508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imeiro acesso ao Módulo Compras, é preciso verificar se existe os locais de entrega cadastr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4278240"/>
            <a:ext cx="648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0" idx="1"/>
            <a:endCxn id="53" idx="2"/>
          </p:cNvCxnSpPr>
          <p:nvPr/>
        </p:nvCxnSpPr>
        <p:spPr>
          <a:xfrm rot="10800000">
            <a:off x="2592000" y="4493880"/>
            <a:ext cx="251280" cy="9424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36727" r="0" b="20824"/>
          <a:stretch/>
        </p:blipFill>
        <p:spPr>
          <a:xfrm>
            <a:off x="762120" y="692280"/>
            <a:ext cx="7619760" cy="2305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067280" y="1197000"/>
            <a:ext cx="3047760" cy="71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ize a Ata, em segui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 no botão Consult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36727" r="0" b="10233"/>
          <a:stretch/>
        </p:blipFill>
        <p:spPr>
          <a:xfrm>
            <a:off x="762120" y="3284640"/>
            <a:ext cx="7619760" cy="28796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876920" y="3789360"/>
            <a:ext cx="30477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ora clique em Selecion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2421000"/>
            <a:ext cx="648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3080" y="5229360"/>
            <a:ext cx="647640" cy="863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8" idx="2"/>
            <a:endCxn id="141" idx="3"/>
          </p:cNvCxnSpPr>
          <p:nvPr/>
        </p:nvCxnSpPr>
        <p:spPr>
          <a:xfrm rot="5400000">
            <a:off x="3947400" y="921960"/>
            <a:ext cx="631080" cy="26564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0" idx="3"/>
            <a:endCxn id="142" idx="3"/>
          </p:cNvCxnSpPr>
          <p:nvPr/>
        </p:nvCxnSpPr>
        <p:spPr>
          <a:xfrm flipH="1">
            <a:off x="7759080" y="4113000"/>
            <a:ext cx="184680" cy="1548360"/>
          </a:xfrm>
          <a:prstGeom prst="bentConnector3">
            <a:avLst>
              <a:gd name="adj1" fmla="val -11367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22137" r="0" b="0"/>
          <a:stretch/>
        </p:blipFill>
        <p:spPr>
          <a:xfrm>
            <a:off x="762120" y="1362240"/>
            <a:ext cx="7619760" cy="4227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aphicFrame>
        <p:nvGraphicFramePr>
          <p:cNvPr id="146" name=""/>
          <p:cNvGraphicFramePr/>
          <p:nvPr/>
        </p:nvGraphicFramePr>
        <p:xfrm>
          <a:off x="2514600" y="4475160"/>
          <a:ext cx="52196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75160"/>
                    <a:ext cx="52196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514600" y="4627440"/>
          <a:ext cx="5297400" cy="2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14600" y="4627440"/>
                    <a:ext cx="52974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019920" y="2781360"/>
            <a:ext cx="22860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 localizar a comp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que em cance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4076640"/>
            <a:ext cx="647640" cy="79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51" idx="0"/>
          </p:cNvCxnSpPr>
          <p:nvPr/>
        </p:nvCxnSpPr>
        <p:spPr>
          <a:xfrm flipH="1" rot="16200000">
            <a:off x="6964920" y="3606480"/>
            <a:ext cx="648360" cy="25452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0" t="22137" r="0" b="0"/>
          <a:stretch/>
        </p:blipFill>
        <p:spPr>
          <a:xfrm>
            <a:off x="762120" y="1433520"/>
            <a:ext cx="7619760" cy="422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286000" y="3022560"/>
            <a:ext cx="34290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encha o camp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td. Para cance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 clique em Confirm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6280" y="414036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4840" y="4149720"/>
            <a:ext cx="333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5084640"/>
            <a:ext cx="647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4581360"/>
            <a:ext cx="8650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6" idx="2"/>
            <a:endCxn id="157" idx="0"/>
          </p:cNvCxnSpPr>
          <p:nvPr/>
        </p:nvCxnSpPr>
        <p:spPr>
          <a:xfrm flipH="1" rot="16200000">
            <a:off x="2324880" y="4726080"/>
            <a:ext cx="456120" cy="223200"/>
          </a:xfrm>
          <a:prstGeom prst="bentConnector3">
            <a:avLst>
              <a:gd name="adj1" fmla="val 5189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4" idx="3"/>
            <a:endCxn id="158" idx="3"/>
          </p:cNvCxnSpPr>
          <p:nvPr/>
        </p:nvCxnSpPr>
        <p:spPr>
          <a:xfrm flipH="1">
            <a:off x="4284360" y="3327480"/>
            <a:ext cx="1430640" cy="1435320"/>
          </a:xfrm>
          <a:prstGeom prst="bentConnector3">
            <a:avLst>
              <a:gd name="adj1" fmla="val -243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34094" r="0" b="0"/>
          <a:stretch/>
        </p:blipFill>
        <p:spPr>
          <a:xfrm>
            <a:off x="762120" y="1650960"/>
            <a:ext cx="7619760" cy="357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4932360" y="2600280"/>
            <a:ext cx="36003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rifique o campo Qtd. Cancelada, será necessário criar uma nova solicitação de 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4365720"/>
            <a:ext cx="720720" cy="576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2"/>
            <a:endCxn id="163" idx="0"/>
          </p:cNvCxnSpPr>
          <p:nvPr/>
        </p:nvCxnSpPr>
        <p:spPr>
          <a:xfrm>
            <a:off x="6732720" y="3517560"/>
            <a:ext cx="2160" cy="849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2514600"/>
            <a:ext cx="716256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aso não seja necessário cancelar a compra, o próximo passo será o da emissão de ordem de comp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62120" y="1793880"/>
            <a:ext cx="7619760" cy="343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3048120" y="2612880"/>
            <a:ext cx="3273480" cy="398880"/>
            <a:chOff x="3048120" y="2612880"/>
            <a:chExt cx="3273480" cy="398880"/>
          </a:xfrm>
        </p:grpSpPr>
        <p:sp>
          <p:nvSpPr>
            <p:cNvPr id="168" name=""/>
            <p:cNvSpPr/>
            <p:nvPr/>
          </p:nvSpPr>
          <p:spPr>
            <a:xfrm>
              <a:off x="3048120" y="2612880"/>
              <a:ext cx="327348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lique agora 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4913280" y="2700360"/>
            <a:ext cx="1346400" cy="239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913280" y="2700360"/>
                      <a:ext cx="1346400" cy="2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1" name=""/>
          <p:cNvSpPr/>
          <p:nvPr/>
        </p:nvSpPr>
        <p:spPr>
          <a:xfrm>
            <a:off x="755640" y="2708280"/>
            <a:ext cx="15127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1"/>
            <a:endCxn id="171" idx="3"/>
          </p:cNvCxnSpPr>
          <p:nvPr/>
        </p:nvCxnSpPr>
        <p:spPr>
          <a:xfrm flipV="1" rot="10800000">
            <a:off x="2267640" y="2813040"/>
            <a:ext cx="780480" cy="76680"/>
          </a:xfrm>
          <a:prstGeom prst="bentConnector3">
            <a:avLst>
              <a:gd name="adj1" fmla="val 4997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62120" y="1773360"/>
            <a:ext cx="7619760" cy="3435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74" name=""/>
          <p:cNvGrpSpPr/>
          <p:nvPr/>
        </p:nvGrpSpPr>
        <p:grpSpPr>
          <a:xfrm>
            <a:off x="3352680" y="4040280"/>
            <a:ext cx="2586240" cy="398880"/>
            <a:chOff x="3352680" y="4040280"/>
            <a:chExt cx="2586240" cy="398880"/>
          </a:xfrm>
        </p:grpSpPr>
        <p:sp>
          <p:nvSpPr>
            <p:cNvPr id="175" name=""/>
            <p:cNvSpPr/>
            <p:nvPr/>
          </p:nvSpPr>
          <p:spPr>
            <a:xfrm>
              <a:off x="3352680" y="4040280"/>
              <a:ext cx="258624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que 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6" name=""/>
            <p:cNvGraphicFramePr/>
            <p:nvPr/>
          </p:nvGraphicFramePr>
          <p:xfrm>
            <a:off x="4569840" y="4137840"/>
            <a:ext cx="1062720" cy="25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69840" y="4137840"/>
                      <a:ext cx="1062720" cy="2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8" name=""/>
          <p:cNvSpPr/>
          <p:nvPr/>
        </p:nvSpPr>
        <p:spPr>
          <a:xfrm>
            <a:off x="2268360" y="3500280"/>
            <a:ext cx="648000" cy="28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5" idx="1"/>
            <a:endCxn id="178" idx="2"/>
          </p:cNvCxnSpPr>
          <p:nvPr/>
        </p:nvCxnSpPr>
        <p:spPr>
          <a:xfrm rot="10800000">
            <a:off x="2591640" y="3806280"/>
            <a:ext cx="741960" cy="4338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15301" t="34646" r="25634" b="27465"/>
          <a:stretch/>
        </p:blipFill>
        <p:spPr>
          <a:xfrm>
            <a:off x="1116000" y="1484280"/>
            <a:ext cx="6915240" cy="3197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4716360" y="5062680"/>
            <a:ext cx="21607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gora clique em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G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64080" y="3529080"/>
            <a:ext cx="647640" cy="1081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0"/>
            <a:endCxn id="182" idx="2"/>
          </p:cNvCxnSpPr>
          <p:nvPr/>
        </p:nvCxnSpPr>
        <p:spPr>
          <a:xfrm flipH="1" flipV="1">
            <a:off x="5787720" y="4609440"/>
            <a:ext cx="8640" cy="453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5299" t="23374" r="28598" b="10048"/>
          <a:stretch/>
        </p:blipFill>
        <p:spPr>
          <a:xfrm>
            <a:off x="828720" y="693720"/>
            <a:ext cx="5472000" cy="468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516720" y="1773360"/>
            <a:ext cx="216072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ione a compra e clique em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G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2"/>
            <a:endCxn id="187" idx="3"/>
          </p:cNvCxnSpPr>
          <p:nvPr/>
        </p:nvCxnSpPr>
        <p:spPr>
          <a:xfrm rot="5400000">
            <a:off x="5995080" y="3051000"/>
            <a:ext cx="1853280" cy="13518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940360" y="4508640"/>
            <a:ext cx="28728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5157720"/>
            <a:ext cx="71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5" idx="2"/>
            <a:endCxn id="188" idx="2"/>
          </p:cNvCxnSpPr>
          <p:nvPr/>
        </p:nvCxnSpPr>
        <p:spPr>
          <a:xfrm rot="5400000">
            <a:off x="3420360" y="1215720"/>
            <a:ext cx="2592720" cy="5761440"/>
          </a:xfrm>
          <a:prstGeom prst="bentConnector3">
            <a:avLst>
              <a:gd name="adj1" fmla="val 12266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8928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2084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39667" b="10635"/>
          <a:stretch/>
        </p:blipFill>
        <p:spPr>
          <a:xfrm>
            <a:off x="631800" y="692280"/>
            <a:ext cx="4876920" cy="5416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867280" y="1197000"/>
            <a:ext cx="2737080" cy="161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ordem de compras foi gerada, porém a mesma encontra-se no Statu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“AGUARDANDO LIBERAÇÃO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2"/>
            <a:endCxn id="192" idx="3"/>
          </p:cNvCxnSpPr>
          <p:nvPr/>
        </p:nvCxnSpPr>
        <p:spPr>
          <a:xfrm rot="5400000">
            <a:off x="6098400" y="2263680"/>
            <a:ext cx="565920" cy="17089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5722920" y="3600360"/>
            <a:ext cx="3097080" cy="2082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ordem de compras só pode ser emitida após liberação n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A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u seja, vinculada ao Contrato ou DSC com IG do tipo Registro de Preç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36727" r="0" b="12866"/>
          <a:stretch/>
        </p:blipFill>
        <p:spPr>
          <a:xfrm>
            <a:off x="762120" y="549360"/>
            <a:ext cx="7619760" cy="2736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56" name=""/>
          <p:cNvGrpSpPr/>
          <p:nvPr/>
        </p:nvGrpSpPr>
        <p:grpSpPr>
          <a:xfrm>
            <a:off x="5003640" y="639720"/>
            <a:ext cx="3273480" cy="1313640"/>
            <a:chOff x="5003640" y="639720"/>
            <a:chExt cx="3273480" cy="1313640"/>
          </a:xfrm>
        </p:grpSpPr>
        <p:sp>
          <p:nvSpPr>
            <p:cNvPr id="57" name=""/>
            <p:cNvSpPr/>
            <p:nvPr/>
          </p:nvSpPr>
          <p:spPr>
            <a:xfrm>
              <a:off x="5003640" y="639720"/>
              <a:ext cx="3273480" cy="1313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 necessário altere ou exclua a localidade abaixo, caso não exista a localidade clique no bot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841360" y="1703520"/>
            <a:ext cx="761040" cy="20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1360" y="1703520"/>
                      <a:ext cx="76104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" name="" descr=""/>
          <p:cNvPicPr/>
          <p:nvPr/>
        </p:nvPicPr>
        <p:blipFill>
          <a:blip r:embed="rId4"/>
          <a:srcRect l="0" t="40706" r="0" b="6227"/>
          <a:stretch/>
        </p:blipFill>
        <p:spPr>
          <a:xfrm>
            <a:off x="762120" y="3500280"/>
            <a:ext cx="7619760" cy="288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1" name=""/>
          <p:cNvGrpSpPr/>
          <p:nvPr/>
        </p:nvGrpSpPr>
        <p:grpSpPr>
          <a:xfrm>
            <a:off x="4140360" y="5589720"/>
            <a:ext cx="3271680" cy="703800"/>
            <a:chOff x="4140360" y="5589720"/>
            <a:chExt cx="3271680" cy="703800"/>
          </a:xfrm>
        </p:grpSpPr>
        <p:sp>
          <p:nvSpPr>
            <p:cNvPr id="62" name=""/>
            <p:cNvSpPr/>
            <p:nvPr/>
          </p:nvSpPr>
          <p:spPr>
            <a:xfrm>
              <a:off x="4140360" y="5589720"/>
              <a:ext cx="3271680" cy="70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encha os campos e clique no bot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5282640" y="6020280"/>
            <a:ext cx="913680" cy="18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82640" y="6020280"/>
                      <a:ext cx="913680" cy="18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"/>
          <p:cNvSpPr/>
          <p:nvPr/>
        </p:nvSpPr>
        <p:spPr>
          <a:xfrm>
            <a:off x="2843280" y="1916280"/>
            <a:ext cx="647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5373720"/>
            <a:ext cx="71928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endCxn id="65" idx="3"/>
          </p:cNvCxnSpPr>
          <p:nvPr/>
        </p:nvCxnSpPr>
        <p:spPr>
          <a:xfrm flipH="1">
            <a:off x="3509640" y="1807920"/>
            <a:ext cx="3094560" cy="253080"/>
          </a:xfrm>
          <a:prstGeom prst="bentConnector3">
            <a:avLst>
              <a:gd name="adj1" fmla="val -738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2" idx="1"/>
            <a:endCxn id="66" idx="2"/>
          </p:cNvCxnSpPr>
          <p:nvPr/>
        </p:nvCxnSpPr>
        <p:spPr>
          <a:xfrm rot="10800000">
            <a:off x="2628360" y="5679360"/>
            <a:ext cx="1492920" cy="2628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15299" t="24393" r="25634" b="13121"/>
          <a:stretch/>
        </p:blipFill>
        <p:spPr>
          <a:xfrm>
            <a:off x="755640" y="692280"/>
            <a:ext cx="5761080" cy="439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4788000" y="1197000"/>
            <a:ext cx="388764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ja as possíveis situações das ordens de compras. Após liberação n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A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mesma irá para o status 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ER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4076640"/>
            <a:ext cx="79236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3141720"/>
            <a:ext cx="503280" cy="574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2"/>
            <a:endCxn id="198" idx="0"/>
          </p:cNvCxnSpPr>
          <p:nvPr/>
        </p:nvCxnSpPr>
        <p:spPr>
          <a:xfrm rot="5400000">
            <a:off x="3213720" y="538920"/>
            <a:ext cx="1529280" cy="5509080"/>
          </a:xfrm>
          <a:prstGeom prst="bentConnector3">
            <a:avLst>
              <a:gd name="adj1" fmla="val 4994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7" idx="2"/>
            <a:endCxn id="199" idx="3"/>
          </p:cNvCxnSpPr>
          <p:nvPr/>
        </p:nvCxnSpPr>
        <p:spPr>
          <a:xfrm rot="5400000">
            <a:off x="5354640" y="2051640"/>
            <a:ext cx="900720" cy="1855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5299" t="24393" r="25634" b="10048"/>
          <a:stretch/>
        </p:blipFill>
        <p:spPr>
          <a:xfrm>
            <a:off x="826920" y="1017720"/>
            <a:ext cx="5761080" cy="46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4500720" y="1690560"/>
            <a:ext cx="381636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ma vez no status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BER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lique em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mit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 emissão da ordem de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3754440"/>
            <a:ext cx="503280" cy="287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3" idx="1"/>
            <a:endCxn id="204" idx="1"/>
          </p:cNvCxnSpPr>
          <p:nvPr/>
        </p:nvCxnSpPr>
        <p:spPr>
          <a:xfrm flipV="1" rot="10800000">
            <a:off x="4336200" y="2194560"/>
            <a:ext cx="145440" cy="1703880"/>
          </a:xfrm>
          <a:prstGeom prst="bentConnector3">
            <a:avLst>
              <a:gd name="adj1" fmla="val 244913"/>
            </a:avLst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932360" y="3754440"/>
            <a:ext cx="36036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3" idx="2"/>
            <a:endCxn id="206" idx="0"/>
          </p:cNvCxnSpPr>
          <p:nvPr/>
        </p:nvCxnSpPr>
        <p:spPr>
          <a:xfrm rot="5400000">
            <a:off x="5251680" y="2578680"/>
            <a:ext cx="1018440" cy="1296000"/>
          </a:xfrm>
          <a:prstGeom prst="bentConnector3">
            <a:avLst>
              <a:gd name="adj1" fmla="val 498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5301" t="34646" r="26369" b="25406"/>
          <a:stretch/>
        </p:blipFill>
        <p:spPr>
          <a:xfrm>
            <a:off x="830160" y="849240"/>
            <a:ext cx="7270920" cy="3587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971640" y="4724280"/>
            <a:ext cx="725796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visualizar uma ordem de compras emitida anteriormente, clique no menu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dem de Comp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calize a Ata e clique em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nsult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o localizar a compra clique em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isualizar/ Emitir/ Cance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2997360"/>
            <a:ext cx="1800360" cy="1439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9" idx="3"/>
            <a:endCxn id="210" idx="3"/>
          </p:cNvCxnSpPr>
          <p:nvPr/>
        </p:nvCxnSpPr>
        <p:spPr>
          <a:xfrm flipH="1" flipV="1">
            <a:off x="7759440" y="3717720"/>
            <a:ext cx="489600" cy="1512000"/>
          </a:xfrm>
          <a:prstGeom prst="bentConnector3">
            <a:avLst>
              <a:gd name="adj1" fmla="val -4282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62120" y="1773360"/>
            <a:ext cx="7619760" cy="3435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213" name=""/>
          <p:cNvGrpSpPr/>
          <p:nvPr/>
        </p:nvGrpSpPr>
        <p:grpSpPr>
          <a:xfrm>
            <a:off x="2971800" y="2820960"/>
            <a:ext cx="2968560" cy="398880"/>
            <a:chOff x="2971800" y="2820960"/>
            <a:chExt cx="2968560" cy="398880"/>
          </a:xfrm>
        </p:grpSpPr>
        <p:sp>
          <p:nvSpPr>
            <p:cNvPr id="214" name=""/>
            <p:cNvSpPr/>
            <p:nvPr/>
          </p:nvSpPr>
          <p:spPr>
            <a:xfrm>
              <a:off x="2971800" y="2820960"/>
              <a:ext cx="296856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lique 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4282920" y="2879640"/>
            <a:ext cx="1473480" cy="25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82920" y="2879640"/>
                      <a:ext cx="147348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7" name=""/>
          <p:cNvSpPr/>
          <p:nvPr/>
        </p:nvSpPr>
        <p:spPr>
          <a:xfrm>
            <a:off x="755640" y="2924280"/>
            <a:ext cx="15127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4" idx="1"/>
            <a:endCxn id="217" idx="3"/>
          </p:cNvCxnSpPr>
          <p:nvPr/>
        </p:nvCxnSpPr>
        <p:spPr>
          <a:xfrm flipV="1" rot="10800000">
            <a:off x="2267640" y="3020760"/>
            <a:ext cx="704160" cy="49680"/>
          </a:xfrm>
          <a:prstGeom prst="bentConnector3">
            <a:avLst>
              <a:gd name="adj1" fmla="val 4997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62120" y="1916280"/>
            <a:ext cx="7619760" cy="3435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2971800" y="2637000"/>
            <a:ext cx="2281320" cy="398880"/>
            <a:chOff x="2971800" y="2637000"/>
            <a:chExt cx="2281320" cy="398880"/>
          </a:xfrm>
        </p:grpSpPr>
        <p:sp>
          <p:nvSpPr>
            <p:cNvPr id="221" name=""/>
            <p:cNvSpPr/>
            <p:nvPr/>
          </p:nvSpPr>
          <p:spPr>
            <a:xfrm>
              <a:off x="2971800" y="2637000"/>
              <a:ext cx="2281320" cy="39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que 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4320000" y="2741040"/>
            <a:ext cx="855000" cy="19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20000" y="2741040"/>
                      <a:ext cx="855000" cy="19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4" name=""/>
          <p:cNvSpPr/>
          <p:nvPr/>
        </p:nvSpPr>
        <p:spPr>
          <a:xfrm>
            <a:off x="2268360" y="3645000"/>
            <a:ext cx="648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1"/>
            <a:endCxn id="224" idx="0"/>
          </p:cNvCxnSpPr>
          <p:nvPr/>
        </p:nvCxnSpPr>
        <p:spPr>
          <a:xfrm flipV="1" rot="10800000">
            <a:off x="2591640" y="2836440"/>
            <a:ext cx="361080" cy="7898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55640" y="1700280"/>
            <a:ext cx="7620120" cy="3435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5638680" y="2735280"/>
            <a:ext cx="22860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 localizar clique em Selecion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21520" y="3645000"/>
            <a:ext cx="647640" cy="936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7" idx="3"/>
            <a:endCxn id="228" idx="3"/>
          </p:cNvCxnSpPr>
          <p:nvPr/>
        </p:nvCxnSpPr>
        <p:spPr>
          <a:xfrm flipH="1">
            <a:off x="7788240" y="3087360"/>
            <a:ext cx="155880" cy="1026360"/>
          </a:xfrm>
          <a:prstGeom prst="bentConnector3">
            <a:avLst>
              <a:gd name="adj1" fmla="val -13495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0" t="26142" r="0" b="0"/>
          <a:stretch/>
        </p:blipFill>
        <p:spPr>
          <a:xfrm>
            <a:off x="762120" y="1434960"/>
            <a:ext cx="7619760" cy="4010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5486400" y="2976480"/>
            <a:ext cx="28195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ora clique em Efetivar ou Cance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34120" y="4292640"/>
            <a:ext cx="647640" cy="6476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1" idx="3"/>
            <a:endCxn id="232" idx="3"/>
          </p:cNvCxnSpPr>
          <p:nvPr/>
        </p:nvCxnSpPr>
        <p:spPr>
          <a:xfrm flipH="1">
            <a:off x="7800480" y="3328920"/>
            <a:ext cx="524880" cy="1288080"/>
          </a:xfrm>
          <a:prstGeom prst="bentConnector3">
            <a:avLst>
              <a:gd name="adj1" fmla="val -3994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rcRect l="0" t="20824" r="0" b="0"/>
          <a:stretch/>
        </p:blipFill>
        <p:spPr>
          <a:xfrm>
            <a:off x="762120" y="1413000"/>
            <a:ext cx="7619760" cy="429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235" name=""/>
          <p:cNvGrpSpPr/>
          <p:nvPr/>
        </p:nvGrpSpPr>
        <p:grpSpPr>
          <a:xfrm>
            <a:off x="4952880" y="4086360"/>
            <a:ext cx="2433600" cy="703800"/>
            <a:chOff x="4952880" y="4086360"/>
            <a:chExt cx="2433600" cy="703800"/>
          </a:xfrm>
        </p:grpSpPr>
        <p:sp>
          <p:nvSpPr>
            <p:cNvPr id="236" name=""/>
            <p:cNvSpPr/>
            <p:nvPr/>
          </p:nvSpPr>
          <p:spPr>
            <a:xfrm>
              <a:off x="4952880" y="4086360"/>
              <a:ext cx="2433600" cy="70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encha os campos e clique 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6306120" y="4516920"/>
            <a:ext cx="926280" cy="166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06120" y="4516920"/>
                      <a:ext cx="926280" cy="16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9" name=""/>
          <p:cNvSpPr/>
          <p:nvPr/>
        </p:nvSpPr>
        <p:spPr>
          <a:xfrm>
            <a:off x="2325600" y="4394160"/>
            <a:ext cx="64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2"/>
          </p:cNvCxnSpPr>
          <p:nvPr/>
        </p:nvCxnSpPr>
        <p:spPr>
          <a:xfrm flipV="1" rot="16200000">
            <a:off x="4320000" y="2957760"/>
            <a:ext cx="180000" cy="3521880"/>
          </a:xfrm>
          <a:prstGeom prst="bentConnector3">
            <a:avLst>
              <a:gd name="adj1" fmla="val -11583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0" t="26142" r="0" b="0"/>
          <a:stretch/>
        </p:blipFill>
        <p:spPr>
          <a:xfrm>
            <a:off x="762120" y="1484280"/>
            <a:ext cx="7619760" cy="4010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242" name=""/>
          <p:cNvGraphicFramePr/>
          <p:nvPr/>
        </p:nvGraphicFramePr>
        <p:xfrm>
          <a:off x="762120" y="4981680"/>
          <a:ext cx="1447560" cy="23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981680"/>
                    <a:ext cx="144756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500720" y="2246400"/>
            <a:ext cx="327168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que a quantidade efetivada e clique em vol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343400"/>
            <a:ext cx="6094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68360" y="4149720"/>
            <a:ext cx="648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4"/>
            <a:endCxn id="246" idx="2"/>
          </p:cNvCxnSpPr>
          <p:nvPr/>
        </p:nvCxnSpPr>
        <p:spPr>
          <a:xfrm flipV="1" rot="16200000">
            <a:off x="3897720" y="3078000"/>
            <a:ext cx="587880" cy="3199680"/>
          </a:xfrm>
          <a:prstGeom prst="bentConnector3">
            <a:avLst>
              <a:gd name="adj1" fmla="val -3566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4" idx="1"/>
            <a:endCxn id="245" idx="0"/>
          </p:cNvCxnSpPr>
          <p:nvPr/>
        </p:nvCxnSpPr>
        <p:spPr>
          <a:xfrm flipH="1" flipV="1" rot="10800000">
            <a:off x="4481280" y="2597760"/>
            <a:ext cx="1310400" cy="1726200"/>
          </a:xfrm>
          <a:prstGeom prst="bentConnector4">
            <a:avLst>
              <a:gd name="adj1" fmla="val -15993"/>
              <a:gd name="adj2" fmla="val 607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19751" r="0" b="9664"/>
          <a:stretch/>
        </p:blipFill>
        <p:spPr>
          <a:xfrm>
            <a:off x="762120" y="1484280"/>
            <a:ext cx="7619760" cy="4033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790560" y="2679840"/>
          <a:ext cx="141912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0560" y="2679840"/>
                    <a:ext cx="14191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4952880" y="4302000"/>
            <a:ext cx="2052720" cy="862560"/>
            <a:chOff x="4952880" y="4302000"/>
            <a:chExt cx="2052720" cy="862560"/>
          </a:xfrm>
        </p:grpSpPr>
        <p:sp>
          <p:nvSpPr>
            <p:cNvPr id="253" name=""/>
            <p:cNvSpPr/>
            <p:nvPr/>
          </p:nvSpPr>
          <p:spPr>
            <a:xfrm>
              <a:off x="4952880" y="4302000"/>
              <a:ext cx="2052720" cy="862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gora clique 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4" name=""/>
            <p:cNvGraphicFramePr/>
            <p:nvPr/>
          </p:nvGraphicFramePr>
          <p:xfrm>
            <a:off x="5343120" y="4808880"/>
            <a:ext cx="1205640" cy="217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3120" y="4808880"/>
                      <a:ext cx="1205640" cy="21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56" name=""/>
          <p:cNvCxnSpPr>
            <a:stCxn id="253" idx="1"/>
            <a:endCxn id="257" idx="0"/>
          </p:cNvCxnSpPr>
          <p:nvPr/>
        </p:nvCxnSpPr>
        <p:spPr>
          <a:xfrm flipV="1" rot="10800000">
            <a:off x="1251720" y="4732920"/>
            <a:ext cx="3682080" cy="3913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84080" y="5143680"/>
            <a:ext cx="93672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5413" r="0" b="13250"/>
          <a:stretch/>
        </p:blipFill>
        <p:spPr>
          <a:xfrm>
            <a:off x="762120" y="620640"/>
            <a:ext cx="7619760" cy="2787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3693960" y="2251080"/>
            <a:ext cx="284508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guinte mensagem será exibida confirmando a inclu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35413" r="0" b="19007"/>
          <a:stretch/>
        </p:blipFill>
        <p:spPr>
          <a:xfrm>
            <a:off x="762120" y="3691080"/>
            <a:ext cx="7619760" cy="2474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72" name=""/>
          <p:cNvGrpSpPr/>
          <p:nvPr/>
        </p:nvGrpSpPr>
        <p:grpSpPr>
          <a:xfrm>
            <a:off x="3200400" y="3645000"/>
            <a:ext cx="2128680" cy="862560"/>
            <a:chOff x="3200400" y="3645000"/>
            <a:chExt cx="2128680" cy="862560"/>
          </a:xfrm>
        </p:grpSpPr>
        <p:sp>
          <p:nvSpPr>
            <p:cNvPr id="73" name=""/>
            <p:cNvSpPr/>
            <p:nvPr/>
          </p:nvSpPr>
          <p:spPr>
            <a:xfrm>
              <a:off x="3200400" y="3645000"/>
              <a:ext cx="2128680" cy="862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que agora e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3580920" y="4097880"/>
            <a:ext cx="1195920" cy="23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0920" y="4097880"/>
                      <a:ext cx="1195920" cy="2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" name=""/>
          <p:cNvSpPr/>
          <p:nvPr/>
        </p:nvSpPr>
        <p:spPr>
          <a:xfrm>
            <a:off x="3995640" y="1254240"/>
            <a:ext cx="2232000" cy="20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5160" y="4092480"/>
            <a:ext cx="1587600" cy="35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0" idx="0"/>
            <a:endCxn id="76" idx="2"/>
          </p:cNvCxnSpPr>
          <p:nvPr/>
        </p:nvCxnSpPr>
        <p:spPr>
          <a:xfrm flipH="1" flipV="1">
            <a:off x="5111280" y="1455120"/>
            <a:ext cx="5760" cy="795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1"/>
            <a:endCxn id="77" idx="3"/>
          </p:cNvCxnSpPr>
          <p:nvPr/>
        </p:nvCxnSpPr>
        <p:spPr>
          <a:xfrm flipV="1" rot="10800000">
            <a:off x="2301120" y="4075560"/>
            <a:ext cx="880200" cy="19620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62120" y="620640"/>
            <a:ext cx="7615080" cy="2300400"/>
            <a:chOff x="762120" y="620640"/>
            <a:chExt cx="7615080" cy="23004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0" t="41641" r="0" b="15910"/>
            <a:stretch/>
          </p:blipFill>
          <p:spPr>
            <a:xfrm>
              <a:off x="762120" y="620640"/>
              <a:ext cx="7615080" cy="230040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4639320" y="1956240"/>
              <a:ext cx="1371240" cy="70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que em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4867920" y="2416320"/>
            <a:ext cx="914040" cy="20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67920" y="2416320"/>
                      <a:ext cx="914040" cy="20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5" name="" descr=""/>
          <p:cNvPicPr/>
          <p:nvPr/>
        </p:nvPicPr>
        <p:blipFill>
          <a:blip r:embed="rId4"/>
          <a:srcRect l="0" t="41608" r="0" b="5325"/>
          <a:stretch/>
        </p:blipFill>
        <p:spPr>
          <a:xfrm>
            <a:off x="762120" y="3284640"/>
            <a:ext cx="7619760" cy="288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57800" y="3381480"/>
            <a:ext cx="25146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 localizar a ata clique em Selecion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54320" y="2060640"/>
            <a:ext cx="71892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8080" y="4970520"/>
            <a:ext cx="647640" cy="936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2" idx="1"/>
            <a:endCxn id="87" idx="3"/>
          </p:cNvCxnSpPr>
          <p:nvPr/>
        </p:nvCxnSpPr>
        <p:spPr>
          <a:xfrm rot="10800000">
            <a:off x="2972520" y="2167920"/>
            <a:ext cx="1667880" cy="1418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6" idx="2"/>
            <a:endCxn id="88" idx="0"/>
          </p:cNvCxnSpPr>
          <p:nvPr/>
        </p:nvCxnSpPr>
        <p:spPr>
          <a:xfrm flipH="1" rot="16200000">
            <a:off x="6339600" y="4278600"/>
            <a:ext cx="848520" cy="497520"/>
          </a:xfrm>
          <a:prstGeom prst="bentConnector3">
            <a:avLst>
              <a:gd name="adj1" fmla="val 49787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22137" r="0" b="0"/>
          <a:stretch/>
        </p:blipFill>
        <p:spPr>
          <a:xfrm>
            <a:off x="762120" y="1289160"/>
            <a:ext cx="7619760" cy="4227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2" name=""/>
          <p:cNvSpPr/>
          <p:nvPr/>
        </p:nvSpPr>
        <p:spPr>
          <a:xfrm flipH="1">
            <a:off x="6943680" y="3770280"/>
            <a:ext cx="62856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1440000"/>
            <a:ext cx="5472000" cy="116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ssa tela será possível solicitar a compra dos Itens da Ata, informe os seguintes camp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sso “4”, o prazo é de até 30 d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067360" y="3984480"/>
            <a:ext cx="62856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991040" y="4216320"/>
            <a:ext cx="62856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19640" y="4503600"/>
            <a:ext cx="62856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172280" y="4761000"/>
            <a:ext cx="3621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9280" y="35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88000" y="370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7388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89520" y="423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928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2760" y="3602160"/>
            <a:ext cx="561672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19504" r="0" b="0"/>
          <a:stretch/>
        </p:blipFill>
        <p:spPr>
          <a:xfrm>
            <a:off x="762120" y="1219320"/>
            <a:ext cx="7619760" cy="437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438280" y="1317600"/>
            <a:ext cx="4191120" cy="116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- Agora desça a barra de rolag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- Para ver a descrição do item, passe o mouse sobre o código do i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0160" y="470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72360" y="1341360"/>
            <a:ext cx="216000" cy="395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3933720"/>
            <a:ext cx="865440" cy="57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7" idx="0"/>
            <a:endCxn id="109" idx="2"/>
          </p:cNvCxnSpPr>
          <p:nvPr/>
        </p:nvCxnSpPr>
        <p:spPr>
          <a:xfrm flipV="1">
            <a:off x="2723760" y="4508280"/>
            <a:ext cx="1213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1"/>
          </p:cNvCxnSpPr>
          <p:nvPr/>
        </p:nvCxnSpPr>
        <p:spPr>
          <a:xfrm flipV="1">
            <a:off x="7283160" y="3320640"/>
            <a:ext cx="889560" cy="161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20824" r="0" b="0"/>
          <a:stretch/>
        </p:blipFill>
        <p:spPr>
          <a:xfrm>
            <a:off x="762120" y="1268280"/>
            <a:ext cx="7619760" cy="4299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113" name=""/>
          <p:cNvGrpSpPr/>
          <p:nvPr/>
        </p:nvGrpSpPr>
        <p:grpSpPr>
          <a:xfrm>
            <a:off x="4114800" y="1655640"/>
            <a:ext cx="4186080" cy="1008720"/>
            <a:chOff x="4114800" y="1655640"/>
            <a:chExt cx="4186080" cy="1008720"/>
          </a:xfrm>
        </p:grpSpPr>
        <p:sp>
          <p:nvSpPr>
            <p:cNvPr id="114" name=""/>
            <p:cNvSpPr/>
            <p:nvPr/>
          </p:nvSpPr>
          <p:spPr>
            <a:xfrm>
              <a:off x="4114800" y="1655640"/>
              <a:ext cx="418608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ifique o saldo disponível em seguida preencha o campo quantidade e clique 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5485680" y="2390760"/>
            <a:ext cx="913680" cy="18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85680" y="2390760"/>
                      <a:ext cx="913680" cy="18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" name=""/>
          <p:cNvSpPr/>
          <p:nvPr/>
        </p:nvSpPr>
        <p:spPr>
          <a:xfrm>
            <a:off x="4114800" y="4224240"/>
            <a:ext cx="68580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148280"/>
            <a:ext cx="16002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357720"/>
            <a:ext cx="648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2"/>
            <a:endCxn id="119" idx="3"/>
          </p:cNvCxnSpPr>
          <p:nvPr/>
        </p:nvCxnSpPr>
        <p:spPr>
          <a:xfrm rot="5400000">
            <a:off x="4412880" y="1707120"/>
            <a:ext cx="820080" cy="27709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20824" r="0" b="0"/>
          <a:stretch/>
        </p:blipFill>
        <p:spPr>
          <a:xfrm>
            <a:off x="762120" y="1341360"/>
            <a:ext cx="7619760" cy="4299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352680" y="4292640"/>
            <a:ext cx="6858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4272120"/>
            <a:ext cx="68580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86200" y="1728720"/>
            <a:ext cx="4414680" cy="1268280"/>
            <a:chOff x="3886200" y="1728720"/>
            <a:chExt cx="4414680" cy="1268280"/>
          </a:xfrm>
        </p:grpSpPr>
        <p:sp>
          <p:nvSpPr>
            <p:cNvPr id="125" name=""/>
            <p:cNvSpPr/>
            <p:nvPr/>
          </p:nvSpPr>
          <p:spPr>
            <a:xfrm>
              <a:off x="3886200" y="1728720"/>
              <a:ext cx="441468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ifique agora o Saldo Disponível e Quantidade Pendente (</a:t>
              </a: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pós a efetivação será zerado esse camp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, clique agora 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4419360" y="2721240"/>
            <a:ext cx="913680" cy="275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360" y="2721240"/>
                      <a:ext cx="913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8" name=""/>
          <p:cNvSpPr/>
          <p:nvPr/>
        </p:nvSpPr>
        <p:spPr>
          <a:xfrm>
            <a:off x="2195640" y="3429000"/>
            <a:ext cx="6476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2"/>
            <a:endCxn id="128" idx="3"/>
          </p:cNvCxnSpPr>
          <p:nvPr/>
        </p:nvCxnSpPr>
        <p:spPr>
          <a:xfrm rot="5400000">
            <a:off x="4069080" y="1548360"/>
            <a:ext cx="818280" cy="323280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36727" r="0" b="0"/>
          <a:stretch/>
        </p:blipFill>
        <p:spPr>
          <a:xfrm>
            <a:off x="762120" y="1938240"/>
            <a:ext cx="7619760" cy="3435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044880" y="2017800"/>
            <a:ext cx="4191120" cy="79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so seja necessária cancelar a comp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lique no menu Cancelamento de Comp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4365720"/>
            <a:ext cx="4190760" cy="65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so contrário vá para o próximo men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MITIR ORDEM DE COMP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565360"/>
            <a:ext cx="1440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2852640"/>
            <a:ext cx="14400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1" idx="1"/>
            <a:endCxn id="133" idx="3"/>
          </p:cNvCxnSpPr>
          <p:nvPr/>
        </p:nvCxnSpPr>
        <p:spPr>
          <a:xfrm flipV="1" rot="10800000">
            <a:off x="2194920" y="2414520"/>
            <a:ext cx="849960" cy="2955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2" idx="1"/>
            <a:endCxn id="134" idx="3"/>
          </p:cNvCxnSpPr>
          <p:nvPr/>
        </p:nvCxnSpPr>
        <p:spPr>
          <a:xfrm rot="10800000">
            <a:off x="2194920" y="2994840"/>
            <a:ext cx="624600" cy="16977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nicio</dc:creator>
  <dc:description/>
  <dc:language>en-US</dc:language>
  <cp:lastModifiedBy>Valdir Augusto da Silva</cp:lastModifiedBy>
  <dcterms:modified xsi:type="dcterms:W3CDTF">2008-12-04T01:57:48Z</dcterms:modified>
  <cp:revision>2</cp:revision>
  <dc:subject/>
  <dc:title>Slide sem título </dc:title>
</cp:coreProperties>
</file>