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54680" cy="37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096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42660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2"/>
          </p:nvPr>
        </p:nvSpPr>
        <p:spPr>
          <a:xfrm>
            <a:off x="3851280" y="9426600"/>
            <a:ext cx="2936880" cy="488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950CC-4788-45FB-9ADD-66BD20D374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17640" y="74448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24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7640" y="74448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24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51280" y="9426600"/>
            <a:ext cx="29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A51D8-2CC9-4D8D-A534-832A775889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9080" y="744480"/>
            <a:ext cx="495468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1980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51280" y="9426600"/>
            <a:ext cx="29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841F5-4207-4E20-867F-44DDB5A223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9080" y="744480"/>
            <a:ext cx="495468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1980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51280" y="9426600"/>
            <a:ext cx="29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64207-85E6-4B1B-A61E-85EB9226C6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9080" y="744480"/>
            <a:ext cx="495468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1980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7640" y="744480"/>
            <a:ext cx="496080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24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7640" y="74448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24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7640" y="74448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24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7752-F438-4B05-8EF5-022AAF3FD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168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F121-936F-454E-90D6-C80524D38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168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3AB2-E726-4985-9B4B-C9B16DDC5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168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BEC4-D959-44D0-B4C8-01459508F5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168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846D-C748-4FA4-97B0-4CB297AD7F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168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6985-481E-4604-94D6-36ED9FC95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168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60E80-4E4B-44B2-8D9A-5C5075F61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168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BB3E-1F4C-4F25-BFAF-F90E55CD3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74240"/>
            <a:ext cx="822168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59737-38A5-4A46-B01F-4ACF7812C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168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FA11-4A32-4DF5-8AEB-F3C892D91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168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AE6D-2901-4116-84A2-9E5330708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168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0FD22-5EA4-431F-8435-09F134B78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641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Minion RegularSC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 RegularSC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  <a:p>
            <a:pPr lvl="1" marL="735120" indent="-27792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Minion RegularSC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 RegularSC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  <a:p>
            <a:pPr lvl="2" marL="1143000" indent="-2286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Minion RegularSC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 RegularSC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  <a:p>
            <a:pPr lvl="3" marL="1600200" indent="-2286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Minion RegularSC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 RegularSC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  <a:p>
            <a:pPr lvl="4" marL="2057400" indent="-2286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Minion RegularS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 RegularSC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  <a:p>
            <a:pPr lvl="5" marL="2057400" indent="-2286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Minion RegularS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 RegularSC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  <a:p>
            <a:pPr lvl="6" marL="2057400" indent="-22860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Minion RegularS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inion RegularSC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B83F6-C723-407C-BE74-C89DAEE917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4920" y="46080"/>
            <a:ext cx="9001080" cy="790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168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http://images.google.com.br/imgres?imgurl=http://www.laandaluza.com/imagenes/compras.jpg&amp;imgrefurl=http://www.laandaluza.com/franquicias/central-franquicias.htm&amp;h=150&amp;w=190&amp;sz=8&amp;hl=pt-BR&amp;start=30&amp;tbnid=mGupxzxQa2VlmM:&amp;tbnh=81&amp;tbnw=103&amp;prev=/images%3Fq%3Dcentra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hyperlink" Target="http://images.google.com.br/imgres?imgurl=http://www.br.com.br/portalbr/calandra.nsf/0/c373a8b28176379903256dad004ca5a7/$FILE/enegocios.jpg&amp;imgrefurl=http://www.br.com.br/portalbr/calandra.nsf/first/0004default%3Fopendocument&amp;h=81&amp;w=112&amp;sz=4&amp;hl=pt-BR&amp;start=4" TargetMode="External"/><Relationship Id="rId11" Type="http://schemas.openxmlformats.org/officeDocument/2006/relationships/image" Target="../media/image11.jpeg"/><Relationship Id="rId12" Type="http://schemas.openxmlformats.org/officeDocument/2006/relationships/hyperlink" Target="http://images.google.com.br/imgres?imgurl=http://www.senado.gov.br/sf/senado/portaldoservidor/jornal/jornal67/Imagens/carrinho_compras.jpg&amp;imgrefurl=http://www.senado.gov.br/sf/senado/portaldoservidor/jornal/jornal67/dicas_supermercado.aspx&amp;h=278&amp;w=228&amp;sz=47&amp;h" TargetMode="External"/><Relationship Id="rId13" Type="http://schemas.openxmlformats.org/officeDocument/2006/relationships/image" Target="../media/image12.png"/><Relationship Id="rId14" Type="http://schemas.openxmlformats.org/officeDocument/2006/relationships/hyperlink" Target="http://images.google.com.br/imgres?imgurl=http://www.celic.rs.gov.br/images/icoPregao.gif&amp;imgrefurl=http://www.celic.rs.gov.br/conteudo.htm&amp;h=64&amp;w=68&amp;sz=3&amp;hl=pt-BR&amp;start=20&amp;tbnid=scDl0jPq3Iy4dM:&amp;tbnh=63&amp;tbnw=67&amp;prev=/images%3Fq%3Dcompras%2Beletr%25C3%25B4nicas" TargetMode="External"/><Relationship Id="rId15" Type="http://schemas.openxmlformats.org/officeDocument/2006/relationships/image" Target="../media/image13.jpe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eplag.ce.gov.br/" TargetMode="External"/><Relationship Id="rId2" Type="http://schemas.openxmlformats.org/officeDocument/2006/relationships/hyperlink" Target="http://www.seplag.ce.gov.br/" TargetMode="External"/><Relationship Id="rId3" Type="http://schemas.openxmlformats.org/officeDocument/2006/relationships/hyperlink" Target="http://www.seplag.ce.gov.br/" TargetMode="External"/><Relationship Id="rId4" Type="http://schemas.openxmlformats.org/officeDocument/2006/relationships/hyperlink" Target="http://www.seplag.ce.gov.br/" TargetMode="External"/><Relationship Id="rId5" Type="http://schemas.openxmlformats.org/officeDocument/2006/relationships/hyperlink" Target="http://www.seplag.ce.gov.br/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001080" cy="7905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08000" y="2178000"/>
            <a:ext cx="8982000" cy="3841920"/>
            <a:chOff x="108000" y="2178000"/>
            <a:chExt cx="8982000" cy="384192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1566720" y="4567320"/>
              <a:ext cx="2089440" cy="14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3591000" y="4351320"/>
              <a:ext cx="1504800" cy="16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3583080" y="3487680"/>
              <a:ext cx="15127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3583080" y="2185920"/>
              <a:ext cx="1657080" cy="13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7"/>
            <a:stretch/>
          </p:blipFill>
          <p:spPr>
            <a:xfrm>
              <a:off x="5094360" y="2178000"/>
              <a:ext cx="2719440" cy="359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8"/>
            <a:stretch/>
          </p:blipFill>
          <p:spPr>
            <a:xfrm>
              <a:off x="108000" y="2263680"/>
              <a:ext cx="2538360" cy="21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9"/>
            <a:stretch/>
          </p:blipFill>
          <p:spPr>
            <a:xfrm>
              <a:off x="2646360" y="34876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5022720" y="4927680"/>
              <a:ext cx="151308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2646360" y="2263680"/>
              <a:ext cx="885960" cy="10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198360" y="4775040"/>
              <a:ext cx="1079640" cy="1016280"/>
            </a:xfrm>
            <a:prstGeom prst="rect">
              <a:avLst/>
            </a:prstGeom>
            <a:ln w="0">
              <a:noFill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67" name="" descr=""/>
            <p:cNvPicPr/>
            <p:nvPr/>
          </p:nvPicPr>
          <p:blipFill>
            <a:blip r:embed="rId16"/>
            <a:stretch/>
          </p:blipFill>
          <p:spPr>
            <a:xfrm>
              <a:off x="6750000" y="4494240"/>
              <a:ext cx="201600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17"/>
            <a:stretch/>
          </p:blipFill>
          <p:spPr>
            <a:xfrm>
              <a:off x="7254720" y="3003480"/>
              <a:ext cx="183528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18"/>
            <a:stretch/>
          </p:blipFill>
          <p:spPr>
            <a:xfrm>
              <a:off x="7902720" y="2206800"/>
              <a:ext cx="100800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"/>
          <p:cNvSpPr/>
          <p:nvPr/>
        </p:nvSpPr>
        <p:spPr>
          <a:xfrm>
            <a:off x="2195640" y="606744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icrosoft Sans Serif"/>
              </a:rPr>
              <a:t>Soraya Quixadá Bez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576360" y="1881360"/>
            <a:ext cx="7842240" cy="3271680"/>
            <a:chOff x="576360" y="1881360"/>
            <a:chExt cx="7842240" cy="3271680"/>
          </a:xfrm>
        </p:grpSpPr>
        <p:sp>
          <p:nvSpPr>
            <p:cNvPr id="72" name=""/>
            <p:cNvSpPr/>
            <p:nvPr/>
          </p:nvSpPr>
          <p:spPr>
            <a:xfrm>
              <a:off x="2241720" y="4282920"/>
              <a:ext cx="6175080" cy="86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Dispõe sobre o procedimento de cotação eletrônica, para aquisição de bens e serviços comuns de pequeno valor, e dá providências correlat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6360" y="4282920"/>
              <a:ext cx="1665360" cy="86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Decreto nº 28.397, de 21 de setembro de 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41720" y="3421080"/>
              <a:ext cx="617508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Regulamenta, no Âmbito da Administração Pública Estadual, a Licitação na Modalidade Pregão, instituída pela Lei Federal Nº10.520, de 18 de Julho de 2002, para Aquisição de Bens e Serviços Comuns, e dá Providências Correlat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6360" y="3421080"/>
              <a:ext cx="16653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Decreto nº 28.089, de 10 de janeiro de 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41720" y="2554200"/>
              <a:ext cx="6175080" cy="86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Dispõe sobre a regulamentação do uso do Sistema de Registro de Preços de que trata o artigo 15 da Lei Federal nº 8.666 de 21 de julho de 1993, e o artigo 11 da Lei Federal nº10.520, de 17 de julho de 2002, e dá outras providênci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6360" y="2554200"/>
              <a:ext cx="1665360" cy="86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Decreto nº 28.087, de 10 de janeiro 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41720" y="1881360"/>
              <a:ext cx="6175080" cy="67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Regulamenta, no âmbito da Administração Pública Estadual, o Sistema de Compras, e dá outras providência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6360" y="1881360"/>
              <a:ext cx="1665360" cy="67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Decreto nº 28.086, de 10 de janeiro de 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6360" y="1881360"/>
              <a:ext cx="7840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6360" y="5151600"/>
              <a:ext cx="7840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6360" y="1881360"/>
              <a:ext cx="1440" cy="327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416800" y="1881360"/>
              <a:ext cx="1800" cy="327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360" y="2554200"/>
              <a:ext cx="7840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41720" y="1881360"/>
              <a:ext cx="1440" cy="327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6360" y="3421080"/>
              <a:ext cx="7840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6360" y="4282920"/>
              <a:ext cx="7840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976480" y="117360"/>
            <a:ext cx="605952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4a4a"/>
                </a:solidFill>
                <a:latin typeface="MS Reference Sans Serif"/>
              </a:rPr>
              <a:t>INSTRUMENTOS LEGAIS DA POLÍTICA DE COMPRAS GOVERNAMENT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E5077-199E-47DE-9170-9CBB7ED85915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427040"/>
            <a:ext cx="821844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50920" indent="-250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250920"/>
                <a:tab algn="l" pos="698400"/>
                <a:tab algn="l" pos="1147680"/>
                <a:tab algn="l" pos="1596960"/>
                <a:tab algn="l" pos="2046240"/>
                <a:tab algn="l" pos="2495520"/>
                <a:tab algn="l" pos="2944800"/>
                <a:tab algn="l" pos="3394080"/>
                <a:tab algn="l" pos="3843360"/>
                <a:tab algn="l" pos="4292640"/>
                <a:tab algn="l" pos="4741920"/>
                <a:tab algn="l" pos="5191200"/>
                <a:tab algn="l" pos="5640480"/>
                <a:tab algn="l" pos="6089760"/>
                <a:tab algn="l" pos="6539040"/>
                <a:tab algn="l" pos="6988320"/>
                <a:tab algn="l" pos="7437600"/>
                <a:tab algn="l" pos="7886880"/>
                <a:tab algn="l" pos="8335800"/>
                <a:tab algn="l" pos="8785080"/>
                <a:tab algn="l" pos="9234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 Secretaria da Administração (hoje SEPLAG) é o Órgão Gestor do Sistema de Compras, responsabilizando-se pela gestão do processo de compras no âmbito do Governo do Estado do Ceará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250920"/>
                <a:tab algn="l" pos="698400"/>
                <a:tab algn="l" pos="1147680"/>
                <a:tab algn="l" pos="1596960"/>
                <a:tab algn="l" pos="2046240"/>
                <a:tab algn="l" pos="2495520"/>
                <a:tab algn="l" pos="2944800"/>
                <a:tab algn="l" pos="3394080"/>
                <a:tab algn="l" pos="3843360"/>
                <a:tab algn="l" pos="4292640"/>
                <a:tab algn="l" pos="4741920"/>
                <a:tab algn="l" pos="5191200"/>
                <a:tab algn="l" pos="5640480"/>
                <a:tab algn="l" pos="6089760"/>
                <a:tab algn="l" pos="6539040"/>
                <a:tab algn="l" pos="6988320"/>
                <a:tab algn="l" pos="7437600"/>
                <a:tab algn="l" pos="7886880"/>
                <a:tab algn="l" pos="8335800"/>
                <a:tab algn="l" pos="8785080"/>
                <a:tab algn="l" pos="9234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s compras de bens, de materiais e de serviços deverão ser realizadas, prioritariamente, agrupando-se todas as necessidades de consumo da Administração Pública Estad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250920"/>
                <a:tab algn="l" pos="698400"/>
                <a:tab algn="l" pos="1147680"/>
                <a:tab algn="l" pos="1596960"/>
                <a:tab algn="l" pos="2046240"/>
                <a:tab algn="l" pos="2495520"/>
                <a:tab algn="l" pos="2944800"/>
                <a:tab algn="l" pos="3394080"/>
                <a:tab algn="l" pos="3843360"/>
                <a:tab algn="l" pos="4292640"/>
                <a:tab algn="l" pos="4741920"/>
                <a:tab algn="l" pos="5191200"/>
                <a:tab algn="l" pos="5640480"/>
                <a:tab algn="l" pos="6089760"/>
                <a:tab algn="l" pos="6539040"/>
                <a:tab algn="l" pos="6988320"/>
                <a:tab algn="l" pos="7437600"/>
                <a:tab algn="l" pos="7886880"/>
                <a:tab algn="l" pos="8335800"/>
                <a:tab algn="l" pos="8785080"/>
                <a:tab algn="l" pos="9234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omente poderão ser adquiridos itens descritos no Catálogo de Bens, Materiais e Serviç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250920"/>
                <a:tab algn="l" pos="698400"/>
                <a:tab algn="l" pos="1147680"/>
                <a:tab algn="l" pos="1596960"/>
                <a:tab algn="l" pos="2046240"/>
                <a:tab algn="l" pos="2495520"/>
                <a:tab algn="l" pos="2944800"/>
                <a:tab algn="l" pos="3394080"/>
                <a:tab algn="l" pos="3843360"/>
                <a:tab algn="l" pos="4292640"/>
                <a:tab algn="l" pos="4741920"/>
                <a:tab algn="l" pos="5191200"/>
                <a:tab algn="l" pos="5640480"/>
                <a:tab algn="l" pos="6089760"/>
                <a:tab algn="l" pos="6539040"/>
                <a:tab algn="l" pos="6988320"/>
                <a:tab algn="l" pos="7437600"/>
                <a:tab algn="l" pos="7886880"/>
                <a:tab algn="l" pos="8335800"/>
                <a:tab algn="l" pos="8785080"/>
                <a:tab algn="l" pos="9234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O Catálogo de Bens, Materiais e Serviços seguirá a estrutura do Federal Supply Classification (FSC), estabelecendo uma linguagem e estrutura única, propiciando a definição de padrões determinados de qualidade e de desempenho dos bens, materiais e serviços a serem adquiridos pelo Governo do Estado do Ceará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50920"/>
                <a:tab algn="l" pos="698400"/>
                <a:tab algn="l" pos="1147680"/>
                <a:tab algn="l" pos="1596960"/>
                <a:tab algn="l" pos="2046240"/>
                <a:tab algn="l" pos="2495520"/>
                <a:tab algn="l" pos="2944800"/>
                <a:tab algn="l" pos="3394080"/>
                <a:tab algn="l" pos="3843360"/>
                <a:tab algn="l" pos="4292640"/>
                <a:tab algn="l" pos="4741920"/>
                <a:tab algn="l" pos="5191200"/>
                <a:tab algn="l" pos="5640480"/>
                <a:tab algn="l" pos="6089760"/>
                <a:tab algn="l" pos="6539040"/>
                <a:tab algn="l" pos="6988320"/>
                <a:tab algn="l" pos="7437600"/>
                <a:tab algn="l" pos="7886880"/>
                <a:tab algn="l" pos="8335800"/>
                <a:tab algn="l" pos="8785080"/>
                <a:tab algn="l" pos="9234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50920"/>
                <a:tab algn="l" pos="698400"/>
                <a:tab algn="l" pos="1147680"/>
                <a:tab algn="l" pos="1596960"/>
                <a:tab algn="l" pos="2046240"/>
                <a:tab algn="l" pos="2495520"/>
                <a:tab algn="l" pos="2944800"/>
                <a:tab algn="l" pos="3394080"/>
                <a:tab algn="l" pos="3843360"/>
                <a:tab algn="l" pos="4292640"/>
                <a:tab algn="l" pos="4741920"/>
                <a:tab algn="l" pos="5191200"/>
                <a:tab algn="l" pos="5640480"/>
                <a:tab algn="l" pos="6089760"/>
                <a:tab algn="l" pos="6539040"/>
                <a:tab algn="l" pos="6988320"/>
                <a:tab algn="l" pos="7437600"/>
                <a:tab algn="l" pos="7886880"/>
                <a:tab algn="l" pos="8335800"/>
                <a:tab algn="l" pos="8785080"/>
                <a:tab algn="l" pos="9234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6480" y="117360"/>
            <a:ext cx="605952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4a4a"/>
                </a:solidFill>
                <a:latin typeface="MS Reference Sans Serif"/>
              </a:rPr>
              <a:t>DESTAQUES IMPORTANTES DA POLÍTICA DE COMPRAS GOVERNAMENT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55308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862D5-60A1-43C1-8CFC-4659014B0282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821844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50920" indent="-250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250920"/>
                <a:tab algn="l" pos="698400"/>
                <a:tab algn="l" pos="1147680"/>
                <a:tab algn="l" pos="1596960"/>
                <a:tab algn="l" pos="2046240"/>
                <a:tab algn="l" pos="2495520"/>
                <a:tab algn="l" pos="2944800"/>
                <a:tab algn="l" pos="3394080"/>
                <a:tab algn="l" pos="3843360"/>
                <a:tab algn="l" pos="4292640"/>
                <a:tab algn="l" pos="4741920"/>
                <a:tab algn="l" pos="5191200"/>
                <a:tab algn="l" pos="5640480"/>
                <a:tab algn="l" pos="6089760"/>
                <a:tab algn="l" pos="6539040"/>
                <a:tab algn="l" pos="6988320"/>
                <a:tab algn="l" pos="7437600"/>
                <a:tab algn="l" pos="7886880"/>
                <a:tab algn="l" pos="8335800"/>
                <a:tab algn="l" pos="8785080"/>
                <a:tab algn="l" pos="9234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O Gestor do Cadastro de Fornecedores (SEPLAG) é responsável pelo gerenciamento e manutenção dos dados cadastrais dos fornecedores e pela emissão do Certificado de Registro Cadastral (CRC), necessário para participar de processos licitatórios e realizar as contratações deles decorrentes no âmbito da Administração Estad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250920"/>
                <a:tab algn="l" pos="698400"/>
                <a:tab algn="l" pos="1147680"/>
                <a:tab algn="l" pos="1596960"/>
                <a:tab algn="l" pos="2046240"/>
                <a:tab algn="l" pos="2495520"/>
                <a:tab algn="l" pos="2944800"/>
                <a:tab algn="l" pos="3394080"/>
                <a:tab algn="l" pos="3843360"/>
                <a:tab algn="l" pos="4292640"/>
                <a:tab algn="l" pos="4741920"/>
                <a:tab algn="l" pos="5191200"/>
                <a:tab algn="l" pos="5640480"/>
                <a:tab algn="l" pos="6089760"/>
                <a:tab algn="l" pos="6539040"/>
                <a:tab algn="l" pos="6988320"/>
                <a:tab algn="l" pos="7437600"/>
                <a:tab algn="l" pos="7886880"/>
                <a:tab algn="l" pos="8335800"/>
                <a:tab algn="l" pos="8785080"/>
                <a:tab algn="l" pos="9234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 Administração Pública Estadual realizará, obrigatoriamente, licitação na modalidade Pregão para aquisição de bens e serviços comuns, definida na forma do parágrafo único do Art.1º da Lei Federal nº10.520/0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50920"/>
                <a:tab algn="l" pos="698400"/>
                <a:tab algn="l" pos="1147680"/>
                <a:tab algn="l" pos="1596960"/>
                <a:tab algn="l" pos="2046240"/>
                <a:tab algn="l" pos="2495520"/>
                <a:tab algn="l" pos="2944800"/>
                <a:tab algn="l" pos="3394080"/>
                <a:tab algn="l" pos="3843360"/>
                <a:tab algn="l" pos="4292640"/>
                <a:tab algn="l" pos="4741920"/>
                <a:tab algn="l" pos="5191200"/>
                <a:tab algn="l" pos="5640480"/>
                <a:tab algn="l" pos="6089760"/>
                <a:tab algn="l" pos="6539040"/>
                <a:tab algn="l" pos="6988320"/>
                <a:tab algn="l" pos="7437600"/>
                <a:tab algn="l" pos="7886880"/>
                <a:tab algn="l" pos="8335800"/>
                <a:tab algn="l" pos="8785080"/>
                <a:tab algn="l" pos="9234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Consideram-se bens e serviços comuns, para os fins e efeitos deste artigo, aqueles cujos padrões de desempenho e qualidade possam ser objetivamente definidos pelo edital, por meio de especificações usuais no mercado”.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50920"/>
                <a:tab algn="l" pos="698400"/>
                <a:tab algn="l" pos="1147680"/>
                <a:tab algn="l" pos="1596960"/>
                <a:tab algn="l" pos="2046240"/>
                <a:tab algn="l" pos="2495520"/>
                <a:tab algn="l" pos="2944800"/>
                <a:tab algn="l" pos="3394080"/>
                <a:tab algn="l" pos="3843360"/>
                <a:tab algn="l" pos="4292640"/>
                <a:tab algn="l" pos="4741920"/>
                <a:tab algn="l" pos="5191200"/>
                <a:tab algn="l" pos="5640480"/>
                <a:tab algn="l" pos="6089760"/>
                <a:tab algn="l" pos="6539040"/>
                <a:tab algn="l" pos="6988320"/>
                <a:tab algn="l" pos="7437600"/>
                <a:tab algn="l" pos="7886880"/>
                <a:tab algn="l" pos="8335800"/>
                <a:tab algn="l" pos="8785080"/>
                <a:tab algn="l" pos="9234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50920"/>
                <a:tab algn="l" pos="698400"/>
                <a:tab algn="l" pos="1147680"/>
                <a:tab algn="l" pos="1596960"/>
                <a:tab algn="l" pos="2046240"/>
                <a:tab algn="l" pos="2495520"/>
                <a:tab algn="l" pos="2944800"/>
                <a:tab algn="l" pos="3394080"/>
                <a:tab algn="l" pos="3843360"/>
                <a:tab algn="l" pos="4292640"/>
                <a:tab algn="l" pos="4741920"/>
                <a:tab algn="l" pos="5191200"/>
                <a:tab algn="l" pos="5640480"/>
                <a:tab algn="l" pos="6089760"/>
                <a:tab algn="l" pos="6539040"/>
                <a:tab algn="l" pos="6988320"/>
                <a:tab algn="l" pos="7437600"/>
                <a:tab algn="l" pos="7886880"/>
                <a:tab algn="l" pos="8335800"/>
                <a:tab algn="l" pos="8785080"/>
                <a:tab algn="l" pos="9234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6480" y="117360"/>
            <a:ext cx="605952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4a4a"/>
                </a:solidFill>
                <a:latin typeface="MS Reference Sans Serif"/>
              </a:rPr>
              <a:t>DESTAQUES IMPORTANTES DA POLÍTICA DE COMPRAS GOVERNAMENT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55308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DBADA-3783-446E-9EF1-4C97EB796D0C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76480" y="117360"/>
            <a:ext cx="605952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4a4a"/>
                </a:solidFill>
                <a:latin typeface="MS Reference Sans Serif"/>
              </a:rPr>
              <a:t>DESTAQUES IMPORTANTES DA POLÍTICA DE COMPRAS GOVERNAMENT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557360"/>
            <a:ext cx="821844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50920" indent="-250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250920"/>
                <a:tab algn="l" pos="698400"/>
                <a:tab algn="l" pos="1147680"/>
                <a:tab algn="l" pos="1596960"/>
                <a:tab algn="l" pos="2046240"/>
                <a:tab algn="l" pos="2495520"/>
                <a:tab algn="l" pos="2944800"/>
                <a:tab algn="l" pos="3394080"/>
                <a:tab algn="l" pos="3843360"/>
                <a:tab algn="l" pos="4292640"/>
                <a:tab algn="l" pos="4741920"/>
                <a:tab algn="l" pos="5191200"/>
                <a:tab algn="l" pos="5640480"/>
                <a:tab algn="l" pos="6089760"/>
                <a:tab algn="l" pos="6539040"/>
                <a:tab algn="l" pos="6988320"/>
                <a:tab algn="l" pos="7437600"/>
                <a:tab algn="l" pos="7886880"/>
                <a:tab algn="l" pos="8335800"/>
                <a:tab algn="l" pos="8785080"/>
                <a:tab algn="l" pos="9234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empre que possível, as compras de bens, materiais e serviços deverão ser realizadas pela sistemática de Registro de Preços, conforme as disposições do decreto estadual vig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250920"/>
                <a:tab algn="l" pos="698400"/>
                <a:tab algn="l" pos="1147680"/>
                <a:tab algn="l" pos="1596960"/>
                <a:tab algn="l" pos="2046240"/>
                <a:tab algn="l" pos="2495520"/>
                <a:tab algn="l" pos="2944800"/>
                <a:tab algn="l" pos="3394080"/>
                <a:tab algn="l" pos="3843360"/>
                <a:tab algn="l" pos="4292640"/>
                <a:tab algn="l" pos="4741920"/>
                <a:tab algn="l" pos="5191200"/>
                <a:tab algn="l" pos="5640480"/>
                <a:tab algn="l" pos="6089760"/>
                <a:tab algn="l" pos="6539040"/>
                <a:tab algn="l" pos="6988320"/>
                <a:tab algn="l" pos="7437600"/>
                <a:tab algn="l" pos="7886880"/>
                <a:tab algn="l" pos="8335800"/>
                <a:tab algn="l" pos="8785080"/>
                <a:tab algn="l" pos="9234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 prática dos atos de coordenação do planejamento do SRP é de responsabilidade do Órgão Gestor do Registro de Preç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250920"/>
                <a:tab algn="l" pos="698400"/>
                <a:tab algn="l" pos="1147680"/>
                <a:tab algn="l" pos="1596960"/>
                <a:tab algn="l" pos="2046240"/>
                <a:tab algn="l" pos="2495520"/>
                <a:tab algn="l" pos="2944800"/>
                <a:tab algn="l" pos="3394080"/>
                <a:tab algn="l" pos="3843360"/>
                <a:tab algn="l" pos="4292640"/>
                <a:tab algn="l" pos="4741920"/>
                <a:tab algn="l" pos="5191200"/>
                <a:tab algn="l" pos="5640480"/>
                <a:tab algn="l" pos="6089760"/>
                <a:tab algn="l" pos="6539040"/>
                <a:tab algn="l" pos="6988320"/>
                <a:tab algn="l" pos="7437600"/>
                <a:tab algn="l" pos="7886880"/>
                <a:tab algn="l" pos="8335800"/>
                <a:tab algn="l" pos="8785080"/>
                <a:tab algn="l" pos="9234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Fica instituída a sistemática de compras eletrônicas - Cotação Eletrônica - por meio da qual os Órgãos da Administração Pública deverão, obrigatoriamente, realizar as aquisições de bens e serviços comuns de pequeno valor, através da Intern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rId1"/>
          </p:cNvPr>
          <p:cNvSpPr/>
          <p:nvPr/>
        </p:nvSpPr>
        <p:spPr>
          <a:xfrm>
            <a:off x="1836720" y="4356000"/>
            <a:ext cx="1619280" cy="107964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crosoft Sans Serif"/>
              </a:rPr>
              <a:t>Regis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crosoft Sans Serif"/>
              </a:rPr>
              <a:t>de Preç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2"/>
          </p:cNvPr>
          <p:cNvSpPr/>
          <p:nvPr/>
        </p:nvSpPr>
        <p:spPr>
          <a:xfrm>
            <a:off x="3708360" y="5075280"/>
            <a:ext cx="1619280" cy="107928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crosoft Sans Serif"/>
              </a:rPr>
              <a:t>Banc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crosoft Sans Serif"/>
              </a:rPr>
              <a:t>Preç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3"/>
          </p:cNvPr>
          <p:cNvSpPr/>
          <p:nvPr/>
        </p:nvSpPr>
        <p:spPr>
          <a:xfrm>
            <a:off x="6191280" y="3527280"/>
            <a:ext cx="1619280" cy="107964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crosoft Sans Serif"/>
              </a:rPr>
              <a:t>Catálogo de Bens, Materi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Microsoft Sans Serif"/>
              </a:rPr>
              <a:t>e Serviç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4"/>
          </p:cNvPr>
          <p:cNvSpPr/>
          <p:nvPr/>
        </p:nvSpPr>
        <p:spPr>
          <a:xfrm>
            <a:off x="3456000" y="1224000"/>
            <a:ext cx="2160720" cy="165564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icrosoft Sans Serif"/>
              </a:rPr>
              <a:t>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icrosoft Sans Serif"/>
              </a:rPr>
              <a:t>de comp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5"/>
          </p:cNvPr>
          <p:cNvSpPr/>
          <p:nvPr/>
        </p:nvSpPr>
        <p:spPr>
          <a:xfrm>
            <a:off x="828720" y="3132000"/>
            <a:ext cx="1619280" cy="1079640"/>
          </a:xfrm>
          <a:prstGeom prst="ellipse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crosoft Sans Serif"/>
              </a:rPr>
              <a:t>Gestã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Microsoft Sans Serif"/>
              </a:rPr>
              <a:t>Fornec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700000">
            <a:off x="5970960" y="3083760"/>
            <a:ext cx="611280" cy="406080"/>
          </a:xfrm>
          <a:custGeom>
            <a:avLst/>
            <a:gdLst>
              <a:gd name="textAreaLeft" fmla="*/ 113040 w 611280"/>
              <a:gd name="textAreaRight" fmla="*/ 514440 w 611280"/>
              <a:gd name="textAreaTop" fmla="*/ 120240 h 406080"/>
              <a:gd name="textAreaBottom" fmla="*/ 285840 h 406080"/>
            </a:gdLst>
            <a:ahLst/>
            <a:rect l="textAreaLeft" t="textAreaTop" r="textAreaRight" b="textAreaBottom"/>
            <a:pathLst>
              <a:path w="21600" h="21800">
                <a:moveTo>
                  <a:pt x="13200" y="0"/>
                </a:moveTo>
                <a:lnTo>
                  <a:pt x="21600" y="10800"/>
                </a:lnTo>
                <a:lnTo>
                  <a:pt x="13200" y="21800"/>
                </a:lnTo>
                <a:lnTo>
                  <a:pt x="13200" y="15200"/>
                </a:lnTo>
                <a:lnTo>
                  <a:pt x="4000" y="15200"/>
                </a:lnTo>
                <a:lnTo>
                  <a:pt x="4000" y="6400"/>
                </a:lnTo>
                <a:lnTo>
                  <a:pt x="13200" y="6400"/>
                </a:lnTo>
                <a:lnTo>
                  <a:pt x="13200" y="0"/>
                </a:lnTo>
                <a:moveTo>
                  <a:pt x="0" y="6400"/>
                </a:moveTo>
                <a:lnTo>
                  <a:pt x="0" y="15200"/>
                </a:lnTo>
                <a:lnTo>
                  <a:pt x="1000" y="15200"/>
                </a:lnTo>
                <a:lnTo>
                  <a:pt x="1000" y="6400"/>
                </a:lnTo>
                <a:lnTo>
                  <a:pt x="0" y="6400"/>
                </a:lnTo>
                <a:moveTo>
                  <a:pt x="2000" y="6400"/>
                </a:moveTo>
                <a:lnTo>
                  <a:pt x="2000" y="15200"/>
                </a:lnTo>
                <a:lnTo>
                  <a:pt x="3000" y="15200"/>
                </a:lnTo>
                <a:lnTo>
                  <a:pt x="3000" y="6400"/>
                </a:lnTo>
                <a:lnTo>
                  <a:pt x="2000" y="64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6b0094"/>
              </a:gs>
            </a:gsLst>
            <a:lin ang="4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8900000">
            <a:off x="2819160" y="2352240"/>
            <a:ext cx="539640" cy="479520"/>
          </a:xfrm>
          <a:custGeom>
            <a:avLst/>
            <a:gdLst>
              <a:gd name="textAreaLeft" fmla="*/ 99720 w 539640"/>
              <a:gd name="textAreaRight" fmla="*/ 454320 w 539640"/>
              <a:gd name="textAreaTop" fmla="*/ 141840 h 479520"/>
              <a:gd name="textAreaBottom" fmla="*/ 337680 h 479520"/>
            </a:gdLst>
            <a:ahLst/>
            <a:rect l="textAreaLeft" t="textAreaTop" r="textAreaRight" b="textAreaBottom"/>
            <a:pathLst>
              <a:path w="21600" h="21800">
                <a:moveTo>
                  <a:pt x="13200" y="0"/>
                </a:moveTo>
                <a:lnTo>
                  <a:pt x="21600" y="10800"/>
                </a:lnTo>
                <a:lnTo>
                  <a:pt x="13200" y="21800"/>
                </a:lnTo>
                <a:lnTo>
                  <a:pt x="13200" y="15200"/>
                </a:lnTo>
                <a:lnTo>
                  <a:pt x="4000" y="15200"/>
                </a:lnTo>
                <a:lnTo>
                  <a:pt x="4000" y="6400"/>
                </a:lnTo>
                <a:lnTo>
                  <a:pt x="13200" y="6400"/>
                </a:lnTo>
                <a:lnTo>
                  <a:pt x="13200" y="0"/>
                </a:lnTo>
                <a:moveTo>
                  <a:pt x="0" y="6400"/>
                </a:moveTo>
                <a:lnTo>
                  <a:pt x="0" y="15200"/>
                </a:lnTo>
                <a:lnTo>
                  <a:pt x="1000" y="15200"/>
                </a:lnTo>
                <a:lnTo>
                  <a:pt x="1000" y="6400"/>
                </a:lnTo>
                <a:lnTo>
                  <a:pt x="0" y="6400"/>
                </a:lnTo>
                <a:moveTo>
                  <a:pt x="2000" y="6400"/>
                </a:moveTo>
                <a:lnTo>
                  <a:pt x="2000" y="15200"/>
                </a:lnTo>
                <a:lnTo>
                  <a:pt x="3000" y="15200"/>
                </a:lnTo>
                <a:lnTo>
                  <a:pt x="3000" y="6400"/>
                </a:lnTo>
                <a:lnTo>
                  <a:pt x="2000" y="64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6b0094"/>
              </a:gs>
            </a:gsLst>
            <a:lin ang="4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8100000">
            <a:off x="2328120" y="2862000"/>
            <a:ext cx="539640" cy="479160"/>
          </a:xfrm>
          <a:custGeom>
            <a:avLst/>
            <a:gdLst>
              <a:gd name="textAreaLeft" fmla="*/ 99720 w 539640"/>
              <a:gd name="textAreaRight" fmla="*/ 454320 w 539640"/>
              <a:gd name="textAreaTop" fmla="*/ 141840 h 479160"/>
              <a:gd name="textAreaBottom" fmla="*/ 337320 h 479160"/>
            </a:gdLst>
            <a:ahLst/>
            <a:rect l="textAreaLeft" t="textAreaTop" r="textAreaRight" b="textAreaBottom"/>
            <a:pathLst>
              <a:path w="21600" h="21800">
                <a:moveTo>
                  <a:pt x="13200" y="0"/>
                </a:moveTo>
                <a:lnTo>
                  <a:pt x="21600" y="10800"/>
                </a:lnTo>
                <a:lnTo>
                  <a:pt x="13200" y="21800"/>
                </a:lnTo>
                <a:lnTo>
                  <a:pt x="13200" y="15200"/>
                </a:lnTo>
                <a:lnTo>
                  <a:pt x="4000" y="15200"/>
                </a:lnTo>
                <a:lnTo>
                  <a:pt x="4000" y="6400"/>
                </a:lnTo>
                <a:lnTo>
                  <a:pt x="13200" y="6400"/>
                </a:lnTo>
                <a:lnTo>
                  <a:pt x="13200" y="0"/>
                </a:lnTo>
                <a:moveTo>
                  <a:pt x="0" y="6400"/>
                </a:moveTo>
                <a:lnTo>
                  <a:pt x="0" y="15200"/>
                </a:lnTo>
                <a:lnTo>
                  <a:pt x="1000" y="15200"/>
                </a:lnTo>
                <a:lnTo>
                  <a:pt x="1000" y="6400"/>
                </a:lnTo>
                <a:lnTo>
                  <a:pt x="0" y="6400"/>
                </a:lnTo>
                <a:moveTo>
                  <a:pt x="2000" y="6400"/>
                </a:moveTo>
                <a:lnTo>
                  <a:pt x="2000" y="15200"/>
                </a:lnTo>
                <a:lnTo>
                  <a:pt x="3000" y="15200"/>
                </a:lnTo>
                <a:lnTo>
                  <a:pt x="3000" y="6400"/>
                </a:lnTo>
                <a:lnTo>
                  <a:pt x="2000" y="64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6b0094"/>
              </a:gs>
            </a:gsLst>
            <a:lin ang="4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8900000">
            <a:off x="3576240" y="3107880"/>
            <a:ext cx="539640" cy="479520"/>
          </a:xfrm>
          <a:custGeom>
            <a:avLst/>
            <a:gdLst>
              <a:gd name="textAreaLeft" fmla="*/ 99720 w 539640"/>
              <a:gd name="textAreaRight" fmla="*/ 454320 w 539640"/>
              <a:gd name="textAreaTop" fmla="*/ 141840 h 479520"/>
              <a:gd name="textAreaBottom" fmla="*/ 337680 h 479520"/>
            </a:gdLst>
            <a:ahLst/>
            <a:rect l="textAreaLeft" t="textAreaTop" r="textAreaRight" b="textAreaBottom"/>
            <a:pathLst>
              <a:path w="21600" h="21800">
                <a:moveTo>
                  <a:pt x="13200" y="0"/>
                </a:moveTo>
                <a:lnTo>
                  <a:pt x="21600" y="10800"/>
                </a:lnTo>
                <a:lnTo>
                  <a:pt x="13200" y="21800"/>
                </a:lnTo>
                <a:lnTo>
                  <a:pt x="13200" y="15200"/>
                </a:lnTo>
                <a:lnTo>
                  <a:pt x="4000" y="15200"/>
                </a:lnTo>
                <a:lnTo>
                  <a:pt x="4000" y="6400"/>
                </a:lnTo>
                <a:lnTo>
                  <a:pt x="13200" y="6400"/>
                </a:lnTo>
                <a:lnTo>
                  <a:pt x="13200" y="0"/>
                </a:lnTo>
                <a:moveTo>
                  <a:pt x="0" y="6400"/>
                </a:moveTo>
                <a:lnTo>
                  <a:pt x="0" y="15200"/>
                </a:lnTo>
                <a:lnTo>
                  <a:pt x="1000" y="15200"/>
                </a:lnTo>
                <a:lnTo>
                  <a:pt x="1000" y="6400"/>
                </a:lnTo>
                <a:lnTo>
                  <a:pt x="0" y="6400"/>
                </a:lnTo>
                <a:moveTo>
                  <a:pt x="2000" y="6400"/>
                </a:moveTo>
                <a:lnTo>
                  <a:pt x="2000" y="15200"/>
                </a:lnTo>
                <a:lnTo>
                  <a:pt x="3000" y="15200"/>
                </a:lnTo>
                <a:lnTo>
                  <a:pt x="3000" y="6400"/>
                </a:lnTo>
                <a:lnTo>
                  <a:pt x="2000" y="64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6b0094"/>
              </a:gs>
            </a:gsLst>
            <a:lin ang="4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8100000">
            <a:off x="3084120" y="3654360"/>
            <a:ext cx="539640" cy="479520"/>
          </a:xfrm>
          <a:custGeom>
            <a:avLst/>
            <a:gdLst>
              <a:gd name="textAreaLeft" fmla="*/ 99720 w 539640"/>
              <a:gd name="textAreaRight" fmla="*/ 454320 w 539640"/>
              <a:gd name="textAreaTop" fmla="*/ 141840 h 479520"/>
              <a:gd name="textAreaBottom" fmla="*/ 337680 h 479520"/>
            </a:gdLst>
            <a:ahLst/>
            <a:rect l="textAreaLeft" t="textAreaTop" r="textAreaRight" b="textAreaBottom"/>
            <a:pathLst>
              <a:path w="21600" h="21800">
                <a:moveTo>
                  <a:pt x="13200" y="0"/>
                </a:moveTo>
                <a:lnTo>
                  <a:pt x="21600" y="10800"/>
                </a:lnTo>
                <a:lnTo>
                  <a:pt x="13200" y="21800"/>
                </a:lnTo>
                <a:lnTo>
                  <a:pt x="13200" y="15200"/>
                </a:lnTo>
                <a:lnTo>
                  <a:pt x="4000" y="15200"/>
                </a:lnTo>
                <a:lnTo>
                  <a:pt x="4000" y="6400"/>
                </a:lnTo>
                <a:lnTo>
                  <a:pt x="13200" y="6400"/>
                </a:lnTo>
                <a:lnTo>
                  <a:pt x="13200" y="0"/>
                </a:lnTo>
                <a:moveTo>
                  <a:pt x="0" y="6400"/>
                </a:moveTo>
                <a:lnTo>
                  <a:pt x="0" y="15200"/>
                </a:lnTo>
                <a:lnTo>
                  <a:pt x="1000" y="15200"/>
                </a:lnTo>
                <a:lnTo>
                  <a:pt x="1000" y="6400"/>
                </a:lnTo>
                <a:lnTo>
                  <a:pt x="0" y="6400"/>
                </a:lnTo>
                <a:moveTo>
                  <a:pt x="2000" y="6400"/>
                </a:moveTo>
                <a:lnTo>
                  <a:pt x="2000" y="15200"/>
                </a:lnTo>
                <a:lnTo>
                  <a:pt x="3000" y="15200"/>
                </a:lnTo>
                <a:lnTo>
                  <a:pt x="3000" y="6400"/>
                </a:lnTo>
                <a:lnTo>
                  <a:pt x="2000" y="64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6b0094"/>
              </a:gs>
            </a:gsLst>
            <a:lin ang="4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8900000">
            <a:off x="5663880" y="4331880"/>
            <a:ext cx="539640" cy="479520"/>
          </a:xfrm>
          <a:custGeom>
            <a:avLst/>
            <a:gdLst>
              <a:gd name="textAreaLeft" fmla="*/ 99720 w 539640"/>
              <a:gd name="textAreaRight" fmla="*/ 454320 w 539640"/>
              <a:gd name="textAreaTop" fmla="*/ 141840 h 479520"/>
              <a:gd name="textAreaBottom" fmla="*/ 337680 h 479520"/>
            </a:gdLst>
            <a:ahLst/>
            <a:rect l="textAreaLeft" t="textAreaTop" r="textAreaRight" b="textAreaBottom"/>
            <a:pathLst>
              <a:path w="21600" h="21800">
                <a:moveTo>
                  <a:pt x="13200" y="0"/>
                </a:moveTo>
                <a:lnTo>
                  <a:pt x="21600" y="10800"/>
                </a:lnTo>
                <a:lnTo>
                  <a:pt x="13200" y="21800"/>
                </a:lnTo>
                <a:lnTo>
                  <a:pt x="13200" y="15200"/>
                </a:lnTo>
                <a:lnTo>
                  <a:pt x="4000" y="15200"/>
                </a:lnTo>
                <a:lnTo>
                  <a:pt x="4000" y="6400"/>
                </a:lnTo>
                <a:lnTo>
                  <a:pt x="13200" y="6400"/>
                </a:lnTo>
                <a:lnTo>
                  <a:pt x="13200" y="0"/>
                </a:lnTo>
                <a:moveTo>
                  <a:pt x="0" y="6400"/>
                </a:moveTo>
                <a:lnTo>
                  <a:pt x="0" y="15200"/>
                </a:lnTo>
                <a:lnTo>
                  <a:pt x="1000" y="15200"/>
                </a:lnTo>
                <a:lnTo>
                  <a:pt x="1000" y="6400"/>
                </a:lnTo>
                <a:lnTo>
                  <a:pt x="0" y="6400"/>
                </a:lnTo>
                <a:moveTo>
                  <a:pt x="2000" y="6400"/>
                </a:moveTo>
                <a:lnTo>
                  <a:pt x="2000" y="15200"/>
                </a:lnTo>
                <a:lnTo>
                  <a:pt x="3000" y="15200"/>
                </a:lnTo>
                <a:lnTo>
                  <a:pt x="3000" y="6400"/>
                </a:lnTo>
                <a:lnTo>
                  <a:pt x="2000" y="64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6b0094"/>
              </a:gs>
            </a:gsLst>
            <a:lin ang="4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8100000">
            <a:off x="5208120" y="4805280"/>
            <a:ext cx="540000" cy="479520"/>
          </a:xfrm>
          <a:custGeom>
            <a:avLst/>
            <a:gdLst>
              <a:gd name="textAreaLeft" fmla="*/ 99720 w 540000"/>
              <a:gd name="textAreaRight" fmla="*/ 454680 w 540000"/>
              <a:gd name="textAreaTop" fmla="*/ 141840 h 479520"/>
              <a:gd name="textAreaBottom" fmla="*/ 337680 h 479520"/>
            </a:gdLst>
            <a:ahLst/>
            <a:rect l="textAreaLeft" t="textAreaTop" r="textAreaRight" b="textAreaBottom"/>
            <a:pathLst>
              <a:path w="21600" h="21800">
                <a:moveTo>
                  <a:pt x="13200" y="0"/>
                </a:moveTo>
                <a:lnTo>
                  <a:pt x="21600" y="10800"/>
                </a:lnTo>
                <a:lnTo>
                  <a:pt x="13200" y="21800"/>
                </a:lnTo>
                <a:lnTo>
                  <a:pt x="13200" y="15200"/>
                </a:lnTo>
                <a:lnTo>
                  <a:pt x="4000" y="15200"/>
                </a:lnTo>
                <a:lnTo>
                  <a:pt x="4000" y="6400"/>
                </a:lnTo>
                <a:lnTo>
                  <a:pt x="13200" y="6400"/>
                </a:lnTo>
                <a:lnTo>
                  <a:pt x="13200" y="0"/>
                </a:lnTo>
                <a:moveTo>
                  <a:pt x="0" y="6400"/>
                </a:moveTo>
                <a:lnTo>
                  <a:pt x="0" y="15200"/>
                </a:lnTo>
                <a:lnTo>
                  <a:pt x="1000" y="15200"/>
                </a:lnTo>
                <a:lnTo>
                  <a:pt x="1000" y="6400"/>
                </a:lnTo>
                <a:lnTo>
                  <a:pt x="0" y="6400"/>
                </a:lnTo>
                <a:moveTo>
                  <a:pt x="2000" y="6400"/>
                </a:moveTo>
                <a:lnTo>
                  <a:pt x="2000" y="15200"/>
                </a:lnTo>
                <a:lnTo>
                  <a:pt x="3000" y="15200"/>
                </a:lnTo>
                <a:lnTo>
                  <a:pt x="3000" y="6400"/>
                </a:lnTo>
                <a:lnTo>
                  <a:pt x="2000" y="64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6b0094"/>
              </a:gs>
            </a:gsLst>
            <a:lin ang="4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3500000">
            <a:off x="5490720" y="2538000"/>
            <a:ext cx="540000" cy="479520"/>
          </a:xfrm>
          <a:custGeom>
            <a:avLst/>
            <a:gdLst>
              <a:gd name="textAreaLeft" fmla="*/ 99720 w 540000"/>
              <a:gd name="textAreaRight" fmla="*/ 454680 w 540000"/>
              <a:gd name="textAreaTop" fmla="*/ 141840 h 479520"/>
              <a:gd name="textAreaBottom" fmla="*/ 337680 h 479520"/>
            </a:gdLst>
            <a:ahLst/>
            <a:rect l="textAreaLeft" t="textAreaTop" r="textAreaRight" b="textAreaBottom"/>
            <a:pathLst>
              <a:path w="21600" h="21800">
                <a:moveTo>
                  <a:pt x="13200" y="0"/>
                </a:moveTo>
                <a:lnTo>
                  <a:pt x="21600" y="10800"/>
                </a:lnTo>
                <a:lnTo>
                  <a:pt x="13200" y="21800"/>
                </a:lnTo>
                <a:lnTo>
                  <a:pt x="13200" y="15200"/>
                </a:lnTo>
                <a:lnTo>
                  <a:pt x="4000" y="15200"/>
                </a:lnTo>
                <a:lnTo>
                  <a:pt x="4000" y="6400"/>
                </a:lnTo>
                <a:lnTo>
                  <a:pt x="13200" y="6400"/>
                </a:lnTo>
                <a:lnTo>
                  <a:pt x="13200" y="0"/>
                </a:lnTo>
                <a:moveTo>
                  <a:pt x="0" y="6400"/>
                </a:moveTo>
                <a:lnTo>
                  <a:pt x="0" y="15200"/>
                </a:lnTo>
                <a:lnTo>
                  <a:pt x="1000" y="15200"/>
                </a:lnTo>
                <a:lnTo>
                  <a:pt x="1000" y="6400"/>
                </a:lnTo>
                <a:lnTo>
                  <a:pt x="0" y="6400"/>
                </a:lnTo>
                <a:moveTo>
                  <a:pt x="2000" y="6400"/>
                </a:moveTo>
                <a:lnTo>
                  <a:pt x="2000" y="15200"/>
                </a:lnTo>
                <a:lnTo>
                  <a:pt x="3000" y="15200"/>
                </a:lnTo>
                <a:lnTo>
                  <a:pt x="3000" y="6400"/>
                </a:lnTo>
                <a:lnTo>
                  <a:pt x="2000" y="64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6b0094"/>
              </a:gs>
            </a:gsLst>
            <a:lin ang="4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6480" y="117360"/>
            <a:ext cx="605952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4a4a"/>
                </a:solidFill>
                <a:latin typeface="MS Reference Sans Serif"/>
              </a:rPr>
              <a:t>INSTRUMENTOS DE GESTÃO DA POLÍTICA DE COMPRAS COVERNAMENT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461960" y="1744560"/>
          <a:ext cx="6126120" cy="346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1744560"/>
                    <a:ext cx="612612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976480" y="119160"/>
            <a:ext cx="605952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lvl="1" marL="457200" algn="ctr">
              <a:lnSpc>
                <a:spcPct val="94000"/>
              </a:lnSpc>
              <a:spcBef>
                <a:spcPts val="700"/>
              </a:spcBef>
              <a:tabLst>
                <a:tab algn="l" pos="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4a4a"/>
                </a:solidFill>
                <a:latin typeface="Microsoft Sans Serif"/>
                <a:ea typeface="Lucida Sans Unicode"/>
              </a:rPr>
              <a:t>SITUAÇÃO DOS REGISTROS DE PREÇOS EM AND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20360" y="177336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 algn="ctr">
              <a:lnSpc>
                <a:spcPct val="94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crosoft Sans Serif"/>
              </a:rPr>
              <a:t>www.seplag.ce.gov.br</a:t>
            </a:r>
            <a:endParaRPr b="1" lang="en-US" sz="1800" spc="-1" strike="noStrike">
              <a:solidFill>
                <a:srgbClr val="000000"/>
              </a:solidFill>
              <a:latin typeface="Minion RegularSC"/>
            </a:endParaRPr>
          </a:p>
          <a:p>
            <a:pPr marL="334800" indent="0" algn="ctr">
              <a:lnSpc>
                <a:spcPct val="94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crosoft Sans Serif"/>
              </a:rPr>
              <a:t>E-mail: soraya@seplag.ce.gov.br</a:t>
            </a:r>
            <a:endParaRPr b="1" lang="en-US" sz="1800" spc="-1" strike="noStrike">
              <a:solidFill>
                <a:srgbClr val="000000"/>
              </a:solidFill>
              <a:latin typeface="Minion RegularSC"/>
            </a:endParaRPr>
          </a:p>
          <a:p>
            <a:pPr marL="334800" indent="0" algn="ctr">
              <a:lnSpc>
                <a:spcPct val="94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crosoft Sans Serif"/>
              </a:rPr>
              <a:t>Telefone: [85] 3101.3856</a:t>
            </a:r>
            <a:endParaRPr b="1" lang="en-US" sz="1800" spc="-1" strike="noStrike">
              <a:solidFill>
                <a:srgbClr val="000000"/>
              </a:solidFill>
              <a:latin typeface="Minion RegularSC"/>
            </a:endParaRPr>
          </a:p>
          <a:p>
            <a:pPr marL="334800" indent="0" algn="ctr">
              <a:lnSpc>
                <a:spcPct val="94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Minion RegularSC"/>
            </a:endParaRPr>
          </a:p>
          <a:p>
            <a:pPr marL="334800" indent="0" algn="ctr">
              <a:lnSpc>
                <a:spcPct val="94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Minion RegularSC"/>
            </a:endParaRPr>
          </a:p>
          <a:p>
            <a:pPr lvl="1" marL="735120" indent="0" algn="ctr">
              <a:lnSpc>
                <a:spcPct val="94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Minion RegularSC"/>
            </a:endParaRPr>
          </a:p>
          <a:p>
            <a:pPr lvl="1" marL="735120" indent="0" algn="ctr">
              <a:lnSpc>
                <a:spcPct val="94000"/>
              </a:lnSpc>
              <a:spcBef>
                <a:spcPts val="5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Minion RegularSC"/>
            </a:endParaRPr>
          </a:p>
        </p:txBody>
      </p:sp>
      <p:sp>
        <p:nvSpPr>
          <p:cNvPr id="116" name=""/>
          <p:cNvSpPr/>
          <p:nvPr/>
        </p:nvSpPr>
        <p:spPr>
          <a:xfrm>
            <a:off x="2976480" y="119160"/>
            <a:ext cx="6059520" cy="6476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ffff66"/>
              </a:gs>
            </a:gsLst>
            <a:lin ang="27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4a4a"/>
                </a:solidFill>
                <a:latin typeface="Microsoft Sans Serif"/>
              </a:rPr>
              <a:t>CONTATOS COM A EQUIPE DE GESTÃO DE COMPRAS GOVERNAMENT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hiago</dc:creator>
  <dc:description/>
  <dc:language>en-US</dc:language>
  <cp:lastModifiedBy>Usuario</cp:lastModifiedBy>
  <cp:revision>0</cp:revision>
  <dc:subject/>
  <dc:title>Slide 1</dc:title>
</cp:coreProperties>
</file>