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3380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move the slide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4104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42660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3"/>
          </p:nvPr>
        </p:nvSpPr>
        <p:spPr>
          <a:xfrm>
            <a:off x="3850920" y="9426240"/>
            <a:ext cx="2916360" cy="468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CF4F8-4611-4EC0-A365-86001F916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7A4A-51B7-4123-BDD4-FBDBFA487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7640" y="74448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1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BCD64-F500-4F6E-9FA4-5DD1E35C2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1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1280" y="9426600"/>
            <a:ext cx="29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5336-8854-40F8-B46C-05663DA02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9080" y="744480"/>
            <a:ext cx="495468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11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C4EB-7CB3-4196-816E-29806D892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F5E-5A33-4EFB-BB5B-4A6DB28B1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20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FE31-555C-4D12-8D6A-17F7AA270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172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624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172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624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13F3-AFF7-4D2E-B845-503A39E17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A9DD-B7B3-4452-8D72-EE0C18376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058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FBF5-010D-487B-80F4-F0E5E50D5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058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4DDD-E29D-4B18-A14D-88A30F488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C5FD-F212-4321-8C14-D7ABD30E6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7997-1A44-4877-9C2D-589066111D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584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7490-DE86-4F59-8123-FB8E7699D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07B2-8E0F-4989-930D-A9EEBD1C7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058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0406-6304-4D70-8814-D88D7A8A9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20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E449-D0D5-415C-A352-7E1021D5D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839D-C174-4C10-AEBC-EE52778AA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5388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3857-22F6-4009-AA0D-1E5DD0C6A2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20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8D7E-26E1-4217-815B-C7C41FF03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172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06240" y="159984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172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06240" y="3953880"/>
            <a:ext cx="26420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7CAD-3F57-4BE3-936C-42AE771F4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058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81A5-2E03-4040-AEC6-A053686FC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9D2F-DEAA-4F33-895B-A8DD87D07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3740-C855-4CC9-9C1D-0786153B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0584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A30A-5827-4D31-9E7F-971631FE8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6F72-FBDD-47B5-A7AF-E33BB043C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2000" y="395388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1406-EF5E-4974-B9C5-30D4A1C42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0" y="1599840"/>
            <a:ext cx="40042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3880"/>
            <a:ext cx="82058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BDE7-66EA-4A54-82DE-3F381225A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058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9280" indent="-26208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8520"/>
            <a:ext cx="2119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8520"/>
            <a:ext cx="2881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09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CF071-F33B-4257-8A57-E194C1672B07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920" y="46080"/>
            <a:ext cx="9001080" cy="7905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00000" y="9810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0584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486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MS Reference Sans Serif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MS Reference Sans Serif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8520"/>
            <a:ext cx="2119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81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09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1DA05B-07FF-45B3-9091-DA1ACA3EB3D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" y="2889360"/>
            <a:ext cx="8600760" cy="193680"/>
            <a:chOff x="228600" y="2889360"/>
            <a:chExt cx="8600760" cy="193680"/>
          </a:xfrm>
        </p:grpSpPr>
        <p:sp>
          <p:nvSpPr>
            <p:cNvPr id="52" name=""/>
            <p:cNvSpPr/>
            <p:nvPr/>
          </p:nvSpPr>
          <p:spPr>
            <a:xfrm>
              <a:off x="228600" y="2889360"/>
              <a:ext cx="2869560" cy="19368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8160" y="2889360"/>
              <a:ext cx="2869560" cy="193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3040" y="2889360"/>
              <a:ext cx="2866320" cy="19368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136A2-F69F-4A45-8B0A-F98D1ECD86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801720"/>
            <a:ext cx="719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Verdana"/>
              </a:rPr>
              <a:t>COMPRAS GOVERNAMENTAIS NO ESTADO DO CEAR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Verdana"/>
              </a:rPr>
              <a:t>NOVOS PROJ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139920"/>
            <a:ext cx="7199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ALDIR AUGUSTO DA SIL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ALISTA DE GESTÃO PÚB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6091200"/>
            <a:ext cx="719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Verdana"/>
              </a:rPr>
              <a:t>Fortaleza – dezembro de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BD221-E280-4045-9479-913D15C35E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31000" y="13096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31000" y="1352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1000" y="14601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73720" y="14508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15238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13240" y="132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52720" y="115920"/>
            <a:ext cx="6048360" cy="720720"/>
          </a:xfrm>
          <a:prstGeom prst="rect">
            <a:avLst/>
          </a:prstGeom>
          <a:gradFill rotWithShape="0">
            <a:gsLst>
              <a:gs pos="0">
                <a:srgbClr val="e9dfb5"/>
              </a:gs>
              <a:gs pos="100000">
                <a:srgbClr val="579d1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PROJETOS RELACIONADOS AO SISTEMA DE COMPRAS GOVERNAMENTA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1547640"/>
            <a:ext cx="3276720" cy="306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Verdana"/>
              </a:rPr>
              <a:t>Manual do Fornecedor </a:t>
            </a:r>
            <a:r>
              <a:rPr b="1" lang="en-US" sz="1300" spc="-1" strike="noStrike">
                <a:solidFill>
                  <a:srgbClr val="ccccff"/>
                </a:solidFill>
                <a:latin typeface="Verdana"/>
              </a:rPr>
              <a:t>&gt;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4680" y="2095560"/>
            <a:ext cx="4362120" cy="423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Verdana"/>
              </a:rPr>
              <a:t>Portal de Compras do Governo Do Estado </a:t>
            </a:r>
            <a:r>
              <a:rPr b="1" lang="en-US" sz="1300" spc="-1" strike="noStrike">
                <a:solidFill>
                  <a:srgbClr val="ccccff"/>
                </a:solidFill>
                <a:latin typeface="Verdana"/>
              </a:rPr>
              <a:t>&gt;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771640"/>
            <a:ext cx="4392720" cy="111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Verdana"/>
              </a:rPr>
              <a:t>Lei Estadual que dá tratamento diferenciado e simplificado às MEs e EPPs nas aquisições públicas do Estado do Ceará, regulamentando a Lei Complementar Federal nº 123, de 14 de dezembro de 2006 </a:t>
            </a:r>
            <a:r>
              <a:rPr b="1" lang="en-US" sz="1300" spc="-1" strike="noStrike">
                <a:solidFill>
                  <a:srgbClr val="ccccff"/>
                </a:solidFill>
                <a:latin typeface="Verdana"/>
              </a:rPr>
              <a:t>&gt;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932360"/>
            <a:ext cx="435636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Verdana"/>
              </a:rPr>
              <a:t>Módulo de Compras do S2GPR - subsistemas de Catálogo de Bens, Materiais e Serviços; Gestão de Fornecedores; Planejamento; Controle de Estoque; Pregão Eletrônico; Cotação Eletrônica; Registro de Preços e Gestão de Compr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584360"/>
            <a:ext cx="32655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blicado no portal da SEP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27480" y="2131920"/>
            <a:ext cx="3544920" cy="303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m fase final de desenvolv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3440" y="2827440"/>
            <a:ext cx="2409840" cy="30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teprojeto finali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21360" y="4211640"/>
            <a:ext cx="2259000" cy="30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m desenvolv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932360"/>
            <a:ext cx="3211560" cy="515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lagem especificada. Em desenvolvi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140360"/>
            <a:ext cx="45007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Verdana"/>
              </a:rPr>
              <a:t>Cartilha “Como Vender para o Estado do Ceará”, com foco nas  MEs e EPPs </a:t>
            </a:r>
            <a:r>
              <a:rPr b="1" lang="en-US" sz="1300" spc="-1" strike="noStrike">
                <a:solidFill>
                  <a:srgbClr val="ccccff"/>
                </a:solidFill>
                <a:latin typeface="Verdana"/>
              </a:rPr>
              <a:t>&gt;&gt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55308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ABFC9-05F0-4BCF-AA18-2B382E29DE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31000" y="13096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31000" y="1352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31000" y="14601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73720" y="14508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15238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13240" y="132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33520" y="3141720"/>
            <a:ext cx="44769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Verdana"/>
              </a:rPr>
              <a:t>É isso aí pessoal, obrigado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0" fill="hold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0" fill="hold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0" fill="hold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iago</dc:creator>
  <dc:description/>
  <dc:language>en-US</dc:language>
  <cp:lastModifiedBy>10580714</cp:lastModifiedBy>
  <dcterms:modified xsi:type="dcterms:W3CDTF">2008-12-04T11:29:37Z</dcterms:modified>
  <cp:revision>5</cp:revision>
  <dc:subject/>
  <dc:title>Slide 1</dc:title>
</cp:coreProperties>
</file>