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3880" cy="124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8920" y="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56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56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98072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0560" y="419220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7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8400" y="1980720"/>
            <a:ext cx="2497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1000" y="1980720"/>
            <a:ext cx="2497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7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8400" y="4192200"/>
            <a:ext cx="2497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1000" y="4192200"/>
            <a:ext cx="24973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565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56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5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0560" y="1980720"/>
            <a:ext cx="3785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56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0560" y="1980720"/>
            <a:ext cx="3785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5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560" y="198072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0560" y="419220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980720"/>
            <a:ext cx="3785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56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565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5120" y="152280"/>
            <a:ext cx="77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Impact"/>
              </a:rPr>
              <a:t>Sistema De Gestão De Registro De Preços - S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476280"/>
            <a:ext cx="777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5686" r="25634" b="14137"/>
          <a:stretch/>
        </p:blipFill>
        <p:spPr>
          <a:xfrm>
            <a:off x="944640" y="2709720"/>
            <a:ext cx="7253280" cy="352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778200" y="3933720"/>
            <a:ext cx="3457800" cy="132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 funções disponíveis sã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– Cadastrar a Solici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 – Autorizar Remanej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836640"/>
            <a:ext cx="80647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ódulo Rem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521000"/>
            <a:ext cx="792144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ódulo destinado à solicitação de remanejamento junto aos Gestores das Atas, que serão encaminhadas às entidades possuidoras de saldo, podendo estas atenderem ou não às solicitações encaminh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3080" y="5157720"/>
            <a:ext cx="143820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2"/>
            <a:endCxn id="56" idx="3"/>
          </p:cNvCxnSpPr>
          <p:nvPr/>
        </p:nvCxnSpPr>
        <p:spPr>
          <a:xfrm rot="5400000">
            <a:off x="3829680" y="3841200"/>
            <a:ext cx="258480" cy="30960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15301" t="45915" r="28598" b="10075"/>
          <a:stretch/>
        </p:blipFill>
        <p:spPr>
          <a:xfrm>
            <a:off x="1836720" y="622440"/>
            <a:ext cx="5472000" cy="3093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701800" y="2368440"/>
            <a:ext cx="45370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á exibido as informações dos itens solicitados para a dedução do seu saldo, digite a quantidade a remanejar e clique em CADAS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91240" y="1270080"/>
            <a:ext cx="244944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5" idx="0"/>
            <a:endCxn id="96" idx="2"/>
          </p:cNvCxnSpPr>
          <p:nvPr/>
        </p:nvCxnSpPr>
        <p:spPr>
          <a:xfrm flipV="1">
            <a:off x="4970520" y="1990080"/>
            <a:ext cx="1046880" cy="3783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836720" y="2711520"/>
            <a:ext cx="649440" cy="1429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15301" t="44901" r="25634" b="26425"/>
          <a:stretch/>
        </p:blipFill>
        <p:spPr>
          <a:xfrm>
            <a:off x="1690560" y="3968640"/>
            <a:ext cx="576108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268360" y="5192640"/>
            <a:ext cx="4537080" cy="703800"/>
          </a:xfrm>
          <a:prstGeom prst="rect">
            <a:avLst/>
          </a:prstGeom>
          <a:solidFill>
            <a:srgbClr val="ccec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 seguida será exibida a tela confirmando o cadastr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35661" r="34490" b="3908"/>
          <a:stretch/>
        </p:blipFill>
        <p:spPr>
          <a:xfrm>
            <a:off x="360360" y="720720"/>
            <a:ext cx="8280360" cy="5630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519280" y="1295280"/>
            <a:ext cx="5761080" cy="411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Times New Roman"/>
              </a:rPr>
              <a:t>Cadastrada a autorização pelo òrgão cedente, os quantitativos dos itens são remanejados automaticamente. Porém, nas solicitações de vários itens e/ou autorizações parciais, é importante que o solicitante aguarde o e-mail em nome do gestor da ata informando a conclusão da solicitação, para então verificar seu novo sal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187280" y="1203480"/>
            <a:ext cx="6480360" cy="5024160"/>
            <a:chOff x="1187280" y="1203480"/>
            <a:chExt cx="6480360" cy="5024160"/>
          </a:xfrm>
        </p:grpSpPr>
        <p:sp>
          <p:nvSpPr>
            <p:cNvPr id="104" name=""/>
            <p:cNvSpPr/>
            <p:nvPr/>
          </p:nvSpPr>
          <p:spPr>
            <a:xfrm>
              <a:off x="1187280" y="1203480"/>
              <a:ext cx="6480360" cy="502416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76400" y="3714840"/>
              <a:ext cx="790560" cy="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49280" y="3124080"/>
              <a:ext cx="1538280" cy="11844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ÓRGÃO CEDENTE (1000)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27640" y="4307040"/>
              <a:ext cx="1440" cy="59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9040" y="4903920"/>
              <a:ext cx="1538280" cy="11840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ÓRGÃO CEDENTE (1)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95880" y="3714840"/>
              <a:ext cx="774720" cy="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69160" y="3124080"/>
              <a:ext cx="1538280" cy="1184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ÓRGÃO CEDENTE (3)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427640" y="2517840"/>
              <a:ext cx="1440" cy="6127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9040" y="1344600"/>
              <a:ext cx="1538280" cy="1184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ÓRGÃO SOLICITANTE (0) –&gt; (1)</a:t>
              </a: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9040" y="3124080"/>
              <a:ext cx="1538280" cy="11844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GESTOR DE 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19280" y="973080"/>
            <a:ext cx="414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RECOMEND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79640"/>
            <a:ext cx="6301080" cy="36003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&gt; ACESSAR DIARIAMENTE O SRP PARA VERIFICAR  PENDÊNCIAS DE SOLICITAÇÕ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&gt; RESPONDER AS SOLICITAÇÕES COM BREV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&gt; AGRUPAR E DEFINIR DE FORMA ADEQUADA OS QUANTITATIVOS A SEREM SOLICITAD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&gt; ATRIBUIR FUNÇÕES AO APOIO E MANTER INTERAÇÃO COM O ALMOXARIF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&gt; ACOMPANHAR A EXECUÇÃO DO PLANEJ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27465" r="32275" b="16191"/>
          <a:stretch/>
        </p:blipFill>
        <p:spPr>
          <a:xfrm>
            <a:off x="611280" y="1054080"/>
            <a:ext cx="7918200" cy="4746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2698920" y="2916360"/>
            <a:ext cx="5400360" cy="167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Times New Roman"/>
              </a:rPr>
              <a:t>Vamos começar efetuando o cadastro de uma solicitação de remanejamento de um item que minha entidade necessi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27465" r="32275" b="16191"/>
          <a:stretch/>
        </p:blipFill>
        <p:spPr>
          <a:xfrm>
            <a:off x="611280" y="1054080"/>
            <a:ext cx="7918200" cy="4746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419640" y="4437000"/>
            <a:ext cx="432108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o clicar em cadastrar solicitação será exibida a tela para busca da 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4799160"/>
            <a:ext cx="162072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1" idx="2"/>
            <a:endCxn id="62" idx="3"/>
          </p:cNvCxnSpPr>
          <p:nvPr/>
        </p:nvCxnSpPr>
        <p:spPr>
          <a:xfrm rot="10800000">
            <a:off x="2231280" y="4977720"/>
            <a:ext cx="3348720" cy="162720"/>
          </a:xfrm>
          <a:prstGeom prst="bentConnector3">
            <a:avLst>
              <a:gd name="adj1" fmla="val 4999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987640" y="2492280"/>
            <a:ext cx="5400720" cy="1224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1" idx="0"/>
            <a:endCxn id="64" idx="1"/>
          </p:cNvCxnSpPr>
          <p:nvPr/>
        </p:nvCxnSpPr>
        <p:spPr>
          <a:xfrm rot="10800000">
            <a:off x="2986920" y="3102840"/>
            <a:ext cx="2592720" cy="1332720"/>
          </a:xfrm>
          <a:prstGeom prst="bentConnector3">
            <a:avLst>
              <a:gd name="adj1" fmla="val 49993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5301" t="32592" r="25634" b="14137"/>
          <a:stretch/>
        </p:blipFill>
        <p:spPr>
          <a:xfrm>
            <a:off x="611280" y="925560"/>
            <a:ext cx="7918200" cy="514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3959280" y="1941480"/>
            <a:ext cx="450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o localizar a Ata, clique em Selecion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3502080"/>
            <a:ext cx="86544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2"/>
            <a:endCxn id="68" idx="1"/>
          </p:cNvCxnSpPr>
          <p:nvPr/>
        </p:nvCxnSpPr>
        <p:spPr>
          <a:xfrm>
            <a:off x="6208200" y="2340000"/>
            <a:ext cx="1243800" cy="134208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5301" t="35661" r="25634" b="22338"/>
          <a:stretch/>
        </p:blipFill>
        <p:spPr>
          <a:xfrm>
            <a:off x="468360" y="1341360"/>
            <a:ext cx="8134200" cy="416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780000" y="1619280"/>
            <a:ext cx="4176720" cy="1472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á exibida a relação dos itens disponíveis na Ata para solic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s: Para saber a descrição do item, passe o mouse sobre o Cod.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1" idx="3"/>
            <a:endCxn id="73" idx="0"/>
          </p:cNvCxnSpPr>
          <p:nvPr/>
        </p:nvCxnSpPr>
        <p:spPr>
          <a:xfrm flipV="1" rot="10800000">
            <a:off x="5436360" y="2355480"/>
            <a:ext cx="2520360" cy="21549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930920" y="4869000"/>
            <a:ext cx="936360" cy="28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57,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508640"/>
            <a:ext cx="1800360" cy="792000"/>
          </a:xfrm>
          <a:prstGeom prst="rect">
            <a:avLst/>
          </a:prstGeom>
          <a:noFill/>
          <a:ln w="648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4508640"/>
            <a:ext cx="144144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5301" t="35661" r="25634" b="22338"/>
          <a:stretch/>
        </p:blipFill>
        <p:spPr>
          <a:xfrm>
            <a:off x="468360" y="1341360"/>
            <a:ext cx="8134200" cy="4168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102200" y="1871640"/>
            <a:ext cx="345744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gite a quantidade desejada para remanejamento e clique em CADAS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9280" y="4508640"/>
            <a:ext cx="18018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0"/>
          </p:cNvCxnSpPr>
          <p:nvPr/>
        </p:nvCxnSpPr>
        <p:spPr>
          <a:xfrm flipV="1" rot="10800000">
            <a:off x="7198560" y="2376000"/>
            <a:ext cx="359640" cy="21344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87280" y="3780000"/>
            <a:ext cx="936720" cy="296640"/>
          </a:xfrm>
          <a:prstGeom prst="rect">
            <a:avLst/>
          </a:prstGeom>
          <a:noFill/>
          <a:ln w="648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30920" y="4869000"/>
            <a:ext cx="936360" cy="28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57,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2356" t="62936" r="25634" b="3908"/>
          <a:stretch/>
        </p:blipFill>
        <p:spPr>
          <a:xfrm>
            <a:off x="612720" y="868320"/>
            <a:ext cx="7920000" cy="3522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079640" y="2843280"/>
            <a:ext cx="665928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ós clicar em CADASTRAR, o sistema exibirá a mensagem confirmando o cadastramento da solic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865080"/>
            <a:ext cx="7740720" cy="546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0"/>
            <a:endCxn id="84" idx="2"/>
          </p:cNvCxnSpPr>
          <p:nvPr/>
        </p:nvCxnSpPr>
        <p:spPr>
          <a:xfrm flipV="1">
            <a:off x="4408200" y="1410840"/>
            <a:ext cx="183240" cy="14328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547640" y="4670280"/>
            <a:ext cx="604872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Aguarde a mensagem via e-mail informando se a solicitação foi atendida ou n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0920" y="1773360"/>
            <a:ext cx="93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57,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27465" r="32275" b="16191"/>
          <a:stretch/>
        </p:blipFill>
        <p:spPr>
          <a:xfrm>
            <a:off x="541440" y="1079640"/>
            <a:ext cx="7918200" cy="4746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879640" y="2384280"/>
            <a:ext cx="5400720" cy="161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Gravada essa solicitação, ela será visualizada pelo Gestor da Ata que procederá o envio de pedido de liberação de saldo para as entidades que poderão atender total, parcial ou negar a solicita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35661" r="34490" b="3908"/>
          <a:stretch/>
        </p:blipFill>
        <p:spPr>
          <a:xfrm>
            <a:off x="360360" y="720720"/>
            <a:ext cx="8280360" cy="5630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843280" y="1197000"/>
            <a:ext cx="4680000" cy="2228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Agora vamos fazer a autorização de um remanejamento solicitado pelo Gestor da Ata a pedido de outra entidade, lembrando que poderei atender total, lançando a quantidade solicitada, parcial, lançando parte do solicitado, ou negar a solicitação, lançando ze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4500720"/>
            <a:ext cx="1800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1" idx="2"/>
            <a:endCxn id="92" idx="3"/>
          </p:cNvCxnSpPr>
          <p:nvPr/>
        </p:nvCxnSpPr>
        <p:spPr>
          <a:xfrm flipV="1" rot="10800000">
            <a:off x="2160000" y="3425400"/>
            <a:ext cx="3023280" cy="1256400"/>
          </a:xfrm>
          <a:prstGeom prst="bentConnector3">
            <a:avLst>
              <a:gd name="adj1" fmla="val 4999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nicio</dc:creator>
  <dc:description/>
  <dc:language>en-US</dc:language>
  <cp:lastModifiedBy>SEPLAG</cp:lastModifiedBy>
  <cp:revision>0</cp:revision>
  <dc:subject/>
  <dc:title>Slide sem título </dc:title>
</cp:coreProperties>
</file>