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3848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MS Reference Sans Serif"/>
              </a:rPr>
              <a:t>Click to move the slide</a:t>
            </a:r>
            <a:endParaRPr b="0" lang="en-US" sz="2800" spc="-1" strike="noStrike">
              <a:solidFill>
                <a:srgbClr val="999900"/>
              </a:solidFill>
              <a:latin typeface="MS Reference Sans Serif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15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942660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Num" idx="3"/>
          </p:nvPr>
        </p:nvSpPr>
        <p:spPr>
          <a:xfrm>
            <a:off x="3851280" y="9426600"/>
            <a:ext cx="2921040" cy="473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6492DC-9FDD-4450-B8D5-46CE2B4569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17640" y="744480"/>
            <a:ext cx="49626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16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917640" y="744480"/>
            <a:ext cx="49626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16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17640" y="744480"/>
            <a:ext cx="49626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16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851280" y="9426600"/>
            <a:ext cx="2925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76E9E1-3BF7-4AEA-8097-6117667E21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19080" y="744480"/>
            <a:ext cx="4954680" cy="371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165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7B33D-8E48-4177-AF34-CA65B26B37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052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9900"/>
              </a:solidFill>
              <a:latin typeface="MS Reference Sans Serif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05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3956760"/>
            <a:ext cx="82105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D86DA-F562-4FFE-993C-4A23ED0B9B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052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9900"/>
              </a:solidFill>
              <a:latin typeface="MS Reference Sans Serif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0644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4160" y="1600200"/>
            <a:ext cx="400644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3956760"/>
            <a:ext cx="400644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4160" y="3956760"/>
            <a:ext cx="400644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F0D99-5578-492D-86A0-025685AD0F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052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9900"/>
              </a:solidFill>
              <a:latin typeface="MS Reference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34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2800" y="1600200"/>
            <a:ext cx="26434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08760" y="1600200"/>
            <a:ext cx="26434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3956760"/>
            <a:ext cx="26434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2800" y="3956760"/>
            <a:ext cx="26434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08760" y="3956760"/>
            <a:ext cx="26434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5B16A-A9A9-4322-8F90-2CF06E8BF2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2CA92-8564-4389-8C45-2E5F8C9359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052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9900"/>
              </a:solidFill>
              <a:latin typeface="MS Reference Sans Serif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1052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E438D-7D5E-444B-A985-D2EAA24F6A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052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9900"/>
              </a:solidFill>
              <a:latin typeface="MS Reference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052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F3A04-A0FE-4B7F-B242-8A4B35B45B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052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9900"/>
              </a:solidFill>
              <a:latin typeface="MS Reference Sans Serif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0644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4160" y="1600200"/>
            <a:ext cx="400644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36F19-7FC1-4980-ACEB-8C5B1D45FE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052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9900"/>
              </a:solidFill>
              <a:latin typeface="MS Reference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A5626-5022-45AF-8A42-2062F32EAF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1052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89425-9F79-4DF0-A32B-3EB330378D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052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9900"/>
              </a:solidFill>
              <a:latin typeface="MS Reference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0644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4160" y="1600200"/>
            <a:ext cx="400644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956760"/>
            <a:ext cx="400644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39EA9-F379-4434-901A-E139F59B00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052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9900"/>
              </a:solidFill>
              <a:latin typeface="MS Reference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1052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C3A88-59FF-4736-9FCC-E38F3E7635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052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9900"/>
              </a:solidFill>
              <a:latin typeface="MS Reference Sans Serif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0644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4160" y="1600200"/>
            <a:ext cx="400644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4160" y="3956760"/>
            <a:ext cx="400644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616D2-2347-457E-A181-718875C796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052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9900"/>
              </a:solidFill>
              <a:latin typeface="MS Reference Sans Serif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0644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4160" y="1600200"/>
            <a:ext cx="400644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56760"/>
            <a:ext cx="82105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2F25E-CAE6-494F-A645-9286AEAC9D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052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9900"/>
              </a:solidFill>
              <a:latin typeface="MS Reference Sans Serif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05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6840" y="3956760"/>
            <a:ext cx="82105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13FD8-1BCE-4814-8983-C6C95C17B1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052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9900"/>
              </a:solidFill>
              <a:latin typeface="MS Reference Sans Serif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0644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4160" y="1600200"/>
            <a:ext cx="400644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3956760"/>
            <a:ext cx="400644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4160" y="3956760"/>
            <a:ext cx="400644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88574-2B77-45A0-970E-CE040B668D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052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9900"/>
              </a:solidFill>
              <a:latin typeface="MS Reference Sans Serif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34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2800" y="1600200"/>
            <a:ext cx="26434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08760" y="1600200"/>
            <a:ext cx="26434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6840" y="3956760"/>
            <a:ext cx="26434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2800" y="3956760"/>
            <a:ext cx="26434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08760" y="3956760"/>
            <a:ext cx="264348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6AE26-CA17-4A36-8D3B-041CB05050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052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9900"/>
              </a:solidFill>
              <a:latin typeface="MS Reference Sans Serif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052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98CAA-FC3C-41E5-918C-7C9854C291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052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9900"/>
              </a:solidFill>
              <a:latin typeface="MS Reference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0644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4160" y="1600200"/>
            <a:ext cx="400644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AE3CE-EE1A-4BCC-9BFF-23B1821126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052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9900"/>
              </a:solidFill>
              <a:latin typeface="MS Reference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2CD02-1C10-4465-B94E-DBC49A08AF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1052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F60E6-317B-4FC5-8075-61421D9CB7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052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9900"/>
              </a:solidFill>
              <a:latin typeface="MS Reference Sans Serif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0644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4160" y="1600200"/>
            <a:ext cx="400644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956760"/>
            <a:ext cx="400644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E8A9F-D913-487B-8C90-1086D6CDDD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052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9900"/>
              </a:solidFill>
              <a:latin typeface="MS Reference Sans Serif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0644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4160" y="1600200"/>
            <a:ext cx="400644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4160" y="3956760"/>
            <a:ext cx="400644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27A1E-40C2-4C4D-A392-6202FB740C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052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9900"/>
              </a:solidFill>
              <a:latin typeface="MS Reference Sans Serif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0644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4160" y="1600200"/>
            <a:ext cx="400644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956760"/>
            <a:ext cx="82105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4723F-6183-4147-B496-2717D6F073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1052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-3240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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3960" indent="-26676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8520"/>
            <a:ext cx="21193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8520"/>
            <a:ext cx="28814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3080" y="6248160"/>
            <a:ext cx="211464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9431AC-BF00-4330-8E77-FD76B05BC963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447920"/>
            <a:ext cx="8077320" cy="144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4920" y="46080"/>
            <a:ext cx="9001080" cy="79056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00000" y="98100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052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MS Reference Sans Serif"/>
              </a:rPr>
              <a:t>Click to edit the title text format</a:t>
            </a:r>
            <a:endParaRPr b="0" lang="en-US" sz="2800" spc="-1" strike="noStrike">
              <a:solidFill>
                <a:srgbClr val="999900"/>
              </a:solidFill>
              <a:latin typeface="MS Reference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7533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MS Reference Sans Serif"/>
              </a:rPr>
              <a:t>Click to edit the title text format</a:t>
            </a:r>
            <a:endParaRPr b="0" lang="en-US" sz="2800" spc="-1" strike="noStrike">
              <a:solidFill>
                <a:srgbClr val="999900"/>
              </a:solidFill>
              <a:latin typeface="MS Reference Sans Serif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6248520"/>
            <a:ext cx="21193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814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160"/>
            <a:ext cx="211464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EF495C0-A0ED-4B86-A60A-A3FBF03FA3F1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28600" y="2889360"/>
            <a:ext cx="8602560" cy="195120"/>
            <a:chOff x="228600" y="2889360"/>
            <a:chExt cx="8602560" cy="195120"/>
          </a:xfrm>
        </p:grpSpPr>
        <p:sp>
          <p:nvSpPr>
            <p:cNvPr id="52" name=""/>
            <p:cNvSpPr/>
            <p:nvPr/>
          </p:nvSpPr>
          <p:spPr>
            <a:xfrm>
              <a:off x="228600" y="2889360"/>
              <a:ext cx="2870280" cy="19512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98880" y="2889360"/>
              <a:ext cx="2870280" cy="195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964120" y="2889360"/>
              <a:ext cx="2867040" cy="19512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916360" y="115920"/>
            <a:ext cx="6048360" cy="720720"/>
          </a:xfrm>
          <a:prstGeom prst="rect">
            <a:avLst/>
          </a:prstGeom>
          <a:gradFill rotWithShape="0">
            <a:gsLst>
              <a:gs pos="0">
                <a:srgbClr val="579d1c"/>
              </a:gs>
              <a:gs pos="100000">
                <a:srgbClr val="e9dfb5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crosoft Sans Serif"/>
              </a:rPr>
              <a:t>MUDANÇAS NAS COMPRAS PÚBLICAS EM RAZÃO DA LEI COMPLEMENTAR 123/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8280" y="1619280"/>
            <a:ext cx="8002440" cy="31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468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2682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Microsoft Sans Serif"/>
              </a:rPr>
              <a:t>LEI COMPLEMENTAR Nº 123, DE 14 DE DEZEMBRO DE 2006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3520" indent="4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682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3520" indent="46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2682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Microsoft Sans Serif"/>
              </a:rPr>
              <a:t>Determina um tratamento diferenciado, simplificado e favorecido aos pequenos negócio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3520" indent="46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2682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3520" indent="46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2682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Microsoft Sans Serif"/>
              </a:rPr>
              <a:t>Visa regulamentar de forma única as atividades de micro e pequenos empresários, simplificando a formalização de empresas, o pagamento de impostos, a obtenção de crédito; e o acesso à tecnologia, às exportações, e às vendas ao govern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3520" indent="46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2682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3520" indent="46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2682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Microsoft Sans Serif"/>
              </a:rPr>
              <a:t>As compras governamentais se inserem no capítulo V – Acesso aos Mercad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520" indent="4680">
              <a:spcBef>
                <a:spcPts val="499"/>
              </a:spcBef>
              <a:tabLst>
                <a:tab algn="l" pos="0"/>
                <a:tab algn="l" pos="2682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916360" y="115920"/>
            <a:ext cx="6048360" cy="720720"/>
          </a:xfrm>
          <a:prstGeom prst="rect">
            <a:avLst/>
          </a:prstGeom>
          <a:gradFill rotWithShape="0">
            <a:gsLst>
              <a:gs pos="0">
                <a:srgbClr val="579d1c"/>
              </a:gs>
              <a:gs pos="100000">
                <a:srgbClr val="e9dfb5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crosoft Sans Serif"/>
              </a:rPr>
              <a:t>MUDANÇAS NAS COMPRAS PÚBLICAS EM RAZÃO DA LEI COMPLEMENTAR 123/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8280" y="1700280"/>
            <a:ext cx="800244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Microsoft Sans Serif"/>
              </a:rPr>
              <a:t>CAPÍTULO V - DISPOSITIVOS AUTO APLICÁVEIS (EM VIGO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icrosoft Sans Serif"/>
              </a:rPr>
              <a:t>Assegura a preferência  na  contratação  de  ME  e EPP em  caso  de  empate  nos processos de licitação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154160" indent="-262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icrosoft Sans Serif"/>
              <a:buChar char="–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crosoft Sans Serif"/>
                <a:ea typeface="Lucida Sans Unicode"/>
              </a:rPr>
              <a:t>Entende-se por empate: quando as propostas apresentadas pelas MEs e EPPs são iguais ou até 10% superiores à proposta mais bem classificada. Na modalidade de pregão, o intervalo percentual é de até 5% superior ao melhor preç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icrosoft Sans Serif"/>
              </a:rPr>
              <a:t>Nas licitações públicas, a comprovação de regularidade fiscal das ME e EPP somente será exigida para efeito de assinatura do contrat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20360" y="154944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3520" indent="0" algn="ctr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38592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8000"/>
                </a:solidFill>
                <a:latin typeface="Verdana"/>
              </a:rPr>
              <a:t>CAPÍTULO V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1" lang="en-GB" sz="1600" spc="-1" strike="noStrike">
                <a:solidFill>
                  <a:srgbClr val="008000"/>
                </a:solidFill>
                <a:latin typeface="Microsoft Sans Serif"/>
              </a:rPr>
              <a:t>DISPOSITIVOS QUE NECESSITAM DE REGULAMENTAÇÃO ESTADU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352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38592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38592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Microsoft Sans Serif"/>
              </a:rPr>
              <a:t>Fixa o limite preferencial de R$ 80.000,00 para compras de ME e EPP, sempre que houver empresas desse porte em condições de fornecer a preços competitivo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38592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Microsoft Sans Serif"/>
              </a:rPr>
              <a:t>Obriga a sub-contratação de ME e EPP de até 30% do total licitado, em grandes contrato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38592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Microsoft Sans Serif"/>
              </a:rPr>
              <a:t>Estabelece cota de 25% do objeto para a contratação de ME e EPP em certames para aquisição de bens e serviços de natureza divisível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38592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Microsoft Sans Serif"/>
              </a:rPr>
              <a:t>Institui a Cédula de Crédito Microempresarial nos casos de empenhos liquidados e não pagos no prazo de 30 dias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3520" indent="-263520">
              <a:lnSpc>
                <a:spcPct val="90000"/>
              </a:lnSpc>
              <a:spcAft>
                <a:spcPts val="751"/>
              </a:spcAft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38592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Microsoft Sans Serif"/>
              </a:rPr>
              <a:t>Prevê a criação do Consórcio Simples para ME e EPP, por prazo indeterminado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3520" indent="0" algn="just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385920"/>
                <a:tab algn="l" pos="835200"/>
                <a:tab algn="l" pos="1284120"/>
                <a:tab algn="l" pos="1733400"/>
                <a:tab algn="l" pos="2182680"/>
                <a:tab algn="l" pos="2631960"/>
                <a:tab algn="l" pos="3081240"/>
                <a:tab algn="l" pos="3530520"/>
                <a:tab algn="l" pos="3979800"/>
                <a:tab algn="l" pos="4429080"/>
                <a:tab algn="l" pos="4878360"/>
                <a:tab algn="l" pos="5327640"/>
                <a:tab algn="l" pos="5776920"/>
                <a:tab algn="l" pos="6226200"/>
                <a:tab algn="l" pos="6675480"/>
                <a:tab algn="l" pos="7124760"/>
                <a:tab algn="l" pos="7574040"/>
                <a:tab algn="l" pos="8023320"/>
                <a:tab algn="l" pos="8472600"/>
                <a:tab algn="l" pos="8921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2916360" y="115920"/>
            <a:ext cx="6048360" cy="720720"/>
          </a:xfrm>
          <a:prstGeom prst="rect">
            <a:avLst/>
          </a:prstGeom>
          <a:gradFill rotWithShape="0">
            <a:gsLst>
              <a:gs pos="0">
                <a:srgbClr val="579d1c"/>
              </a:gs>
              <a:gs pos="100000">
                <a:srgbClr val="e9dfb5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crosoft Sans Serif"/>
              </a:rPr>
              <a:t>MUDANÇAS NAS COMPRAS PÚBLICAS EM RAZÃO DA LEI COMPLEMENTAR 123/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553080" y="6248520"/>
            <a:ext cx="21193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9A0952-443D-46C1-9537-D9D8D91416F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31000" y="130968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31000" y="13525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31000" y="146016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73720" y="145080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00720" y="152388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13240" y="13237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0720" y="1619280"/>
            <a:ext cx="7920000" cy="38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47680" indent="-2476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24768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Regulamentação do capítulo V da Lei Complementar 123/2006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47680" indent="-2476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24768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Identificação das “MEs” e “EPPs” locais e seus grupos de atividades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47680" indent="-2476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24768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Implantação do planejamento anual das compras a serem realizadas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47680" indent="-2476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24768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Padronização e divulgação das especificações dos bens, materiais e serviços com a finalidade de orientar as “MEs” e “EPPs” na adequação de seus produtos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47680" indent="-2476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24768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Monitoramento da participação das “MEs” e “EPPs” nas licitações do Estado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47680" indent="-2476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247680"/>
                <a:tab algn="l" pos="695160"/>
                <a:tab algn="l" pos="1144440"/>
                <a:tab algn="l" pos="1593720"/>
                <a:tab algn="l" pos="20430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Articulação da área de compras governamentais com os diversos segmentos do mercado local e instituições de apoio e fomento as “MEs” e “EPPs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16360" y="115920"/>
            <a:ext cx="6048360" cy="720720"/>
          </a:xfrm>
          <a:prstGeom prst="rect">
            <a:avLst/>
          </a:prstGeom>
          <a:gradFill rotWithShape="0">
            <a:gsLst>
              <a:gs pos="0">
                <a:srgbClr val="579d1c"/>
              </a:gs>
              <a:gs pos="100000">
                <a:srgbClr val="e9dfb5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crosoft Sans Serif"/>
              </a:rPr>
              <a:t>MEDIDAS DE FAVORECIMENTO AS “MEs” E “EPP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hiago</dc:creator>
  <dc:description/>
  <dc:language>en-US</dc:language>
  <cp:lastModifiedBy>Valdir Augusto da Silva</cp:lastModifiedBy>
  <dcterms:modified xsi:type="dcterms:W3CDTF">2008-12-04T01:35:16Z</dcterms:modified>
  <cp:revision>2</cp:revision>
  <dc:subject/>
  <dc:title>Slide 1</dc:title>
</cp:coreProperties>
</file>